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2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64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75.xml.rels" ContentType="application/vnd.openxmlformats-package.relationships+xml"/>
  <Override PartName="/ppt/slides/_rels/slide10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85.xml" ContentType="application/vnd.openxmlformats-officedocument.presentationml.slide+xml"/>
  <Override PartName="/ppt/slides/slide89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74797-7D71-4879-86B5-4AB1FDE6D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3F37E-4878-4636-9C59-18CF5E005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E06CB-3B95-48A8-99C3-0FBB78337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E92B5-6C45-4A83-870D-E6CD62BE2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ADFAD-D43A-44C8-B9E7-F9D1957F8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76B93-6248-4F54-ACA2-F456C2660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C3792-BBAD-48DF-AEDA-FC80B51C6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7923B-02B9-4C07-98C8-5320E20AE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4F7D9-8501-4063-B048-D23CB8FC2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E1CFF-F923-4DB4-BB50-1BEAC311E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4419F-21DD-45F4-8A98-7A208ACC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02EC6-BACD-4078-B56D-817851892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8E429-4953-49B3-A3C7-71AFD8EC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9ADE4-770D-41E2-8192-BFE90B6E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FA759-B508-460F-BA61-245FA392A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BA156-02F8-4D77-9147-A799DA67D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92A45-5BDA-496C-92C5-A443F74BB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99322-186E-4CBA-89CE-6243628A5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B83F8-D687-4BFC-83A7-4FA625F63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012BB-6302-4007-9343-155A2EE77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57FCD-2AB9-4F14-9BF7-DF9C8D8C2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CDE94-E684-4262-BBD3-512F5747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EDF46-AD5A-47E3-BF3D-DCE679C6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38AE9-6938-4586-BCED-3751878C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CE020-AC0E-4487-B688-090566A0BE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02F43-0B8D-42E7-94E3-780AAEA98A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48416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Mass Relationships in Chemical React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34129-6838-410F-BA44-4B1DF9F6E85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-252360" y="692280"/>
          <a:ext cx="8892720" cy="3415680"/>
        </p:xfrm>
        <a:graphic>
          <a:graphicData uri="http://schemas.openxmlformats.org/drawingml/2006/table">
            <a:tbl>
              <a:tblPr/>
              <a:tblGrid>
                <a:gridCol w="493920"/>
                <a:gridCol w="450720"/>
                <a:gridCol w="7948080"/>
              </a:tblGrid>
              <a:tr h="85392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What information would you need to calculate the average atomic mass of an elemen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a) The number of neutrons in the elemen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b) The atomic number of the elemen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4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c)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The mass and abundance of each isotope of the elemen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3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d) The position in the periodic table of the elemen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E904F-A74A-4437-A460-46423DE87EF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296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alculate the theoretical yield of Ti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gr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trateg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n: Masses of two reactan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miting reagent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sses of reactan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les of reac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les of reactan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d to calculate the moles of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les of produc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is the less number of mol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limiting reag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les of produ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Comic Sans MS"/>
              </a:rPr>
              <a:t>grams of product (theoretical yield of the produ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482920" y="1484280"/>
            <a:ext cx="59767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أي بمعنى اخر: احسبي وزنه التيتانيوم الناتجه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242EE-E433-4FE6-8074-9767AA377641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468360" y="620640"/>
            <a:ext cx="8351640" cy="51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rams of TiCl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es of TiCl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es of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e rati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e TiCl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e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.97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ol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?n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(Ti) =1.87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593640" y="1268280"/>
                <a:ext cx="7524720" cy="12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iCl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7C50F-F4CA-4B6B-A3D9-157A6FA4A28A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468360" y="620640"/>
            <a:ext cx="83516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ams of M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les of M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les of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le rati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mole M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 mole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64 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ol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?n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1" name=""/>
              <p:cNvSpPr txBox="1"/>
              <p:nvPr/>
            </p:nvSpPr>
            <p:spPr>
              <a:xfrm>
                <a:off x="482760" y="1197000"/>
                <a:ext cx="774828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1374840" y="4508640"/>
                <a:ext cx="5816520" cy="11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i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EECC9-FC4C-4AA2-95E9-C0545803A067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539640" y="476280"/>
            <a:ext cx="806472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n(Ti) is the less number of moles (limiting reagent) = 1.87 x10</a:t>
            </a:r>
            <a:r>
              <a:rPr b="0" lang="en-GB" sz="3200" spc="-1" strike="noStrike" baseline="30000">
                <a:solidFill>
                  <a:srgbClr val="a50021"/>
                </a:solidFill>
                <a:latin typeface="Comic Sans MS"/>
              </a:rPr>
              <a:t>5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 m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les of Ti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rams of 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</a:t>
            </a:r>
            <a:r>
              <a:rPr b="1" lang="en-GB" sz="3200" spc="-1" strike="noStrike" u="sng">
                <a:solidFill>
                  <a:srgbClr val="a50021"/>
                </a:solidFill>
                <a:uFillTx/>
                <a:latin typeface="Comic Sans MS"/>
              </a:rPr>
              <a:t>mass of Ti = theoretical yield of Ti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= m =n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4" name=""/>
              <p:cNvSpPr txBox="1"/>
              <p:nvPr/>
            </p:nvSpPr>
            <p:spPr>
              <a:xfrm>
                <a:off x="1042920" y="3933720"/>
                <a:ext cx="7232760" cy="11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i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7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olx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6F835-0144-46EA-9DB9-0CEBDB61E2F7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468360" y="457200"/>
            <a:ext cx="828036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Font typeface="Comic Sans MS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Calculate the percent yield if 7.91 x 10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g of Ti are actually obtai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6" name=""/>
              <p:cNvSpPr txBox="1"/>
              <p:nvPr/>
            </p:nvSpPr>
            <p:spPr>
              <a:xfrm>
                <a:off x="1066680" y="1773360"/>
                <a:ext cx="6910560" cy="28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rPr>
                            <m:lit/>
                            <m:nor/>
                          </m:rPr>
                          <m:t xml:space="preserve"> yield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ctual yiel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heoretical yield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1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5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17" name=""/>
          <p:cNvSpPr/>
          <p:nvPr/>
        </p:nvSpPr>
        <p:spPr>
          <a:xfrm>
            <a:off x="468360" y="558972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H.W. Solve the practice exercise p1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B2AC1-E56B-4C7E-A861-6E1CAB70E839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2556000" y="220500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nd of Chapter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36671-7914-43EE-B79E-08321180815D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95280" y="476280"/>
            <a:ext cx="84978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2009a7"/>
                </a:solidFill>
                <a:uFillTx/>
                <a:latin typeface="Comic Sans MS"/>
              </a:rPr>
              <a:t>Example 3.1 p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atomic masses of the Copper isotop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re 62.93 amu &amp; 64.9278 amu, respectively. Calculate the average atomic mass of copp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692360" y="1916280"/>
                <a:ext cx="547056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Cu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9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Cu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1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78999-02AE-44D7-B7FE-3AB745D1C66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8920" y="333360"/>
            <a:ext cx="8893080" cy="61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009a7"/>
                </a:solidFill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ercentage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rac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69.09% = 69.09/100 = 0.6909; 30.91% = 30.91/100 = 0.30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AAM will be closer to the mass of the isotope with the largest natural abund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THUS: Average atomic mass of copp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= (0.6909 x 62.93)</a:t>
            </a:r>
            <a:r>
              <a:rPr b="0" lang="en-GB" sz="3200" spc="-1" strike="noStrike" baseline="-25000">
                <a:solidFill>
                  <a:srgbClr val="006600"/>
                </a:solidFill>
                <a:latin typeface="Comic Sans MS"/>
              </a:rPr>
              <a:t>63Cu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+ (0.3091 x 64.9278)</a:t>
            </a:r>
            <a:r>
              <a:rPr b="0" lang="en-GB" sz="3200" spc="-1" strike="noStrike" baseline="-25000">
                <a:solidFill>
                  <a:srgbClr val="006600"/>
                </a:solidFill>
                <a:latin typeface="Comic Sans MS"/>
              </a:rPr>
              <a:t>65Cu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= 63.55 a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0000" y="6467400"/>
            <a:ext cx="42847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Comic Sans MS"/>
              </a:rPr>
              <a:t>H.W. Solve the Practice Exercise p8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4F13D-F557-452B-8153-4E83A2F1723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-108000" y="441360"/>
          <a:ext cx="8381880" cy="2555640"/>
        </p:xfrm>
        <a:graphic>
          <a:graphicData uri="http://schemas.openxmlformats.org/drawingml/2006/table">
            <a:tbl>
              <a:tblPr/>
              <a:tblGrid>
                <a:gridCol w="644400"/>
                <a:gridCol w="538200"/>
                <a:gridCol w="7199280"/>
              </a:tblGrid>
              <a:tr h="114804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Iodine has two isotopes </a:t>
                      </a:r>
                      <a:r>
                        <a:rPr b="0" lang="en-US" sz="2400" spc="-1" strike="noStrike" baseline="30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126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I and </a:t>
                      </a:r>
                      <a:r>
                        <a:rPr b="0" lang="en-US" sz="2400" spc="-1" strike="noStrike" baseline="30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127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I,  with the equal abundanc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Calculate the average atomic mass of Iodine (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53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I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126.5 am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b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5.45 am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265 am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71.92 am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0330D-5FA6-4E14-A2EA-E2666F54B34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08000" y="549360"/>
            <a:ext cx="8893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666633"/>
                </a:solidFill>
                <a:uFillTx/>
                <a:latin typeface="Comic Sans MS"/>
              </a:rPr>
              <a:t>NOTE:</a:t>
            </a:r>
            <a:r>
              <a:rPr b="0" lang="en-US" sz="4000" spc="-1" strike="noStrike">
                <a:solidFill>
                  <a:srgbClr val="666633"/>
                </a:solidFill>
                <a:latin typeface="Comic Sans MS"/>
              </a:rPr>
              <a:t> Atomic Mass of an isotop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33"/>
                </a:solidFill>
                <a:latin typeface="Comic Sans MS"/>
              </a:rPr>
              <a:t>e.g.  </a:t>
            </a:r>
            <a:r>
              <a:rPr b="0" lang="en-US" sz="4000" spc="-1" strike="noStrike" baseline="30000">
                <a:solidFill>
                  <a:srgbClr val="666633"/>
                </a:solidFill>
                <a:latin typeface="Comic Sans MS"/>
              </a:rPr>
              <a:t>12</a:t>
            </a:r>
            <a:r>
              <a:rPr b="0" lang="en-US" sz="4000" spc="-1" strike="noStrike">
                <a:solidFill>
                  <a:srgbClr val="666633"/>
                </a:solidFill>
                <a:latin typeface="Comic Sans MS"/>
              </a:rPr>
              <a:t>C &amp; </a:t>
            </a:r>
            <a:r>
              <a:rPr b="0" lang="en-US" sz="4000" spc="-1" strike="noStrike" baseline="30000">
                <a:solidFill>
                  <a:srgbClr val="666633"/>
                </a:solidFill>
                <a:latin typeface="Comic Sans MS"/>
              </a:rPr>
              <a:t>13</a:t>
            </a:r>
            <a:r>
              <a:rPr b="0" lang="en-US" sz="4000" spc="-1" strike="noStrike">
                <a:solidFill>
                  <a:srgbClr val="666633"/>
                </a:solidFill>
                <a:latin typeface="Comic Sans MS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Comic Sans MS"/>
              </a:rPr>
              <a:t>Atomic Mass of an elem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Comic Sans MS"/>
              </a:rPr>
              <a:t>e.g. C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Comic Sans MS"/>
              </a:rPr>
              <a:t>= Average Atomic Ma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Als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Average Atomic Mass C = Atomic Mass 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C2559-37C5-4B26-8B82-71E19FE0DC7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28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3.2 Avogadro’s Number and the Molar M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le (mol) is the SI unit of the amount of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vogadro’s Number (N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)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one mole of each substance contains 6.022 x 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particles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9999ff"/>
                </a:solidFill>
                <a:latin typeface="Comic Sans MS"/>
              </a:rPr>
              <a:t>atom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molecul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ions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tc.),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6.022 x 10</a:t>
            </a:r>
            <a:r>
              <a:rPr b="0" lang="en-GB" sz="3200" spc="-1" strike="noStrike" baseline="30000">
                <a:solidFill>
                  <a:srgbClr val="a50021"/>
                </a:solidFill>
                <a:latin typeface="Comic Sans MS"/>
              </a:rPr>
              <a:t>23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 the Avogadro's Number (N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=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6.022 x 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3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articles (</a:t>
            </a:r>
            <a:r>
              <a:rPr b="0" lang="en-GB" sz="3200" spc="-1" strike="noStrike">
                <a:solidFill>
                  <a:srgbClr val="9999ff"/>
                </a:solidFill>
                <a:latin typeface="Comic Sans MS"/>
              </a:rPr>
              <a:t>atom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molecule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ions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751D7-9BAC-4451-B1F2-6FDE61E471B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2340000" y="620640"/>
            <a:ext cx="3816000" cy="3384360"/>
            <a:chOff x="2340000" y="620640"/>
            <a:chExt cx="3816000" cy="3384360"/>
          </a:xfrm>
        </p:grpSpPr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2340000" y="1389960"/>
              <a:ext cx="3816000" cy="261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2838240" y="620640"/>
              <a:ext cx="177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ozen = 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1187280" y="4005360"/>
            <a:ext cx="6409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1 dozen = 12 Anyt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1 mol = 6.022 x10</a:t>
            </a:r>
            <a:r>
              <a:rPr b="0" lang="en-GB" sz="36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partic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EC41D-C36D-42EE-BA31-E4399D108C3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HU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H atom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9900cc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atoms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H</a:t>
            </a:r>
            <a:r>
              <a:rPr b="0" lang="en-GB" sz="4000" spc="-1" strike="noStrike" baseline="-25000">
                <a:solidFill>
                  <a:srgbClr val="2009a7"/>
                </a:solidFill>
                <a:latin typeface="Comic Sans MS"/>
              </a:rPr>
              <a:t>2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2009a7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2009a7"/>
                </a:solidFill>
                <a:latin typeface="Comic Sans MS"/>
              </a:rPr>
              <a:t> 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07669-77BF-4608-9795-463B7908D4F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026" descr="03_01"/>
          <p:cNvPicPr/>
          <p:nvPr/>
        </p:nvPicPr>
        <p:blipFill>
          <a:blip r:embed="rId1"/>
          <a:srcRect l="0" t="11559" r="0" b="12764"/>
          <a:stretch/>
        </p:blipFill>
        <p:spPr>
          <a:xfrm>
            <a:off x="-108000" y="981000"/>
            <a:ext cx="9396360" cy="53323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47640" y="1197000"/>
            <a:ext cx="15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ne mole of Car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51280" y="3940200"/>
            <a:ext cx="15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ne mole of Merc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3860640"/>
            <a:ext cx="15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ne mole of Co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561440" y="3651120"/>
            <a:ext cx="15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ne mole of I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488360" y="1274760"/>
            <a:ext cx="15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ne mole of Sulp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7ABD2-559E-44D4-A7FA-BD76B173663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7476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Molar M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96472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olar mass (M)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mass (in g or kg) of one mole of a substanc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 = mass/mo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r ONE MOLE: 1 amu = 1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The atomic mass of 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1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C is 12.00 amu = 12.00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e of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= 12.00 amu = 12.00 g = has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atom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has 6.022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The Molar Mass (M)  of 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1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C = 12.00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0360" y="2060640"/>
            <a:ext cx="3959280" cy="647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95640" y="3139920"/>
            <a:ext cx="5040360" cy="5763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DD3BB-611D-4173-86B7-94EEF5642E4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2921040"/>
            <a:ext cx="8785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Chapter 3</a:t>
            </a:r>
            <a:br>
              <a:rPr sz="4000"/>
            </a:b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7d"/>
                </a:solidFill>
                <a:latin typeface="Comic Sans MS"/>
              </a:rPr>
              <a:t>Mass Relationships in Chemical Reactions </a:t>
            </a:r>
            <a:br>
              <a:rPr sz="3600"/>
            </a:br>
            <a:r>
              <a:rPr b="1" lang="en-GB" sz="3200" spc="-1" strike="noStrike">
                <a:solidFill>
                  <a:srgbClr val="00007d"/>
                </a:solidFill>
                <a:latin typeface="Comic Sans MS"/>
              </a:rPr>
              <a:t>Chang Pages 80-107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110-114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3.5, 3.6, 3.7, 3.8, 3.14, 3.16, 3.18, 3.20, 3.22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, 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3.24, 3.26, 3.28, 3.40, 3.42, 3.44, 3.46, 3.48, 3.50, 3.52, 3.44, 3.46, 3.48, 3.50, 3.52, 3.60, 3.84, 3.86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341C5-7700-4366-B862-033D7DA81F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07640" y="549000"/>
            <a:ext cx="8893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Comic Sans MS"/>
              </a:rPr>
              <a:t>Atomic Mass of an isotope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Comic Sans MS"/>
              </a:rPr>
              <a:t>e.g.  </a:t>
            </a:r>
            <a:r>
              <a:rPr b="0" lang="en-US" sz="4400" spc="-1" strike="noStrike" baseline="30000">
                <a:solidFill>
                  <a:srgbClr val="666633"/>
                </a:solidFill>
                <a:latin typeface="Comic Sans MS"/>
              </a:rPr>
              <a:t>12</a:t>
            </a:r>
            <a:r>
              <a:rPr b="0" lang="en-US" sz="4400" spc="-1" strike="noStrike">
                <a:solidFill>
                  <a:srgbClr val="666633"/>
                </a:solidFill>
                <a:latin typeface="Comic Sans MS"/>
              </a:rPr>
              <a:t>C &amp; </a:t>
            </a:r>
            <a:r>
              <a:rPr b="0" lang="en-US" sz="4400" spc="-1" strike="noStrike" baseline="30000">
                <a:solidFill>
                  <a:srgbClr val="666633"/>
                </a:solidFill>
                <a:latin typeface="Comic Sans MS"/>
              </a:rPr>
              <a:t>13</a:t>
            </a:r>
            <a:r>
              <a:rPr b="0" lang="en-US" sz="4400" spc="-1" strike="noStrike">
                <a:solidFill>
                  <a:srgbClr val="666633"/>
                </a:solidFill>
                <a:latin typeface="Comic Sans MS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Atomic Mass of an ele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e.g. C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is Average Atomic Mas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Also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Average Atomic Mass C = Atomic Mass 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3DC6A-D51D-4F85-926D-F639CD7AEBA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07280" cy="201636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Molar Mass (g/mo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Atomic Mass (amu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2935440"/>
            <a:ext cx="8207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009a7"/>
                </a:solidFill>
                <a:latin typeface="Comic Sans MS"/>
              </a:rPr>
              <a:t>1. The atomic mass of Na = 22.99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009a7"/>
                </a:solidFill>
                <a:latin typeface="Comic Sans MS"/>
              </a:rPr>
              <a:t>The molar mass of Na = 22.99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6633"/>
                </a:solidFill>
                <a:latin typeface="Comic Sans MS"/>
              </a:rPr>
              <a:t>2. The atomic mass of P = 30.97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6633"/>
                </a:solidFill>
                <a:latin typeface="Comic Sans MS"/>
              </a:rPr>
              <a:t>The molar mass of P = 30.97 g/mol</a:t>
            </a:r>
            <a:r>
              <a:rPr b="0" lang="en-GB" sz="2800" spc="-1" strike="noStrike">
                <a:solidFill>
                  <a:srgbClr val="666633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8AED0-8E12-4174-8299-B06739B8B57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95280" y="177336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3.2 p8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How many moles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f He atoms are in 6.46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of H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FECD8-2E40-49C7-B31E-5F113105CC6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95280" y="404640"/>
            <a:ext cx="87487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3000"/>
          </a:bodyPr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Number of moles =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he atomic mass of He = The Molar mass of 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Comic Sans MS"/>
              </a:rPr>
              <a:t>From the periodic Table: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the atomic mass of He = The molar mass of He = 4.003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us: 4.003 g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1 mole of 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6.46 g of He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? Moles (?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us: there is 1.61 moles of He atoms in 6.46 g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114560" y="3990960"/>
                <a:ext cx="590544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 x 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3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1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1835280" y="6346800"/>
            <a:ext cx="6373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H.W. Solve the Practice Exercise p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4B933-84DC-4D75-A648-0A54586CF51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512720" y="476280"/>
            <a:ext cx="5832720" cy="302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 = number of m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 = mass (atom or molecu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 = molar mass (atomic mass or molecular ma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What is the relation between th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7308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3024360" y="2565360"/>
                <a:ext cx="259236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1512720" y="3645000"/>
            <a:ext cx="5832720" cy="3063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 = number of m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 = number of atoms or molec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= Avogadro's number (atoms (or molecules)/m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What is the relation between th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160720" y="5786280"/>
                <a:ext cx="453708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toms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r molecule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toms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r molecules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EC021-3F04-42E0-8496-5AC7ECF77A4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11280" y="620640"/>
            <a:ext cx="82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How many moles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of He atoms are in 6.46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of H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611280" y="1916280"/>
                <a:ext cx="7848360" cy="14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r>
                          <m:t xml:space="preserve">g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3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1</m:t>
                    </m:r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5A3F8-DF76-419C-9861-AEB788F1CA9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95280" y="184464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3.3 p8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How many grams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f Zn  are in 0.356 m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of Z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672AF-C858-4A3A-A6E6-6C5305AA5AB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95280" y="404640"/>
            <a:ext cx="87487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3000"/>
          </a:bodyPr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Number of moles =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he atomic mass of Zn = The Molar mass of 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Comic Sans MS"/>
              </a:rPr>
              <a:t>From the periodic Table: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The Atomic mass of Zn = molar mass of Zn = 65.39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us: 65.39 g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1 mole of 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?g of He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0.356 mo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us: there is 23.3 g of Zn atoms in 0.356 moles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755640" y="4005360"/>
                <a:ext cx="669456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s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rPr>
                            <m:lit/>
                            <m:nor/>
                          </m:rPr>
                          <m:t xml:space="preserve"> g x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56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 g of Z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2158920" y="6237360"/>
            <a:ext cx="5942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H.W. Solve the Practice Exercise p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E9162-0BBF-4F3D-A9CA-470B54C296E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11280" y="620640"/>
            <a:ext cx="82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How many grams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of Zn  are in 0.356 m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of Z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542880" y="1916280"/>
                <a:ext cx="8275680" cy="22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56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rPr>
                            <m:lit/>
                            <m:nor/>
                          </m:rPr>
                          <m:t xml:space="preserve"> g/mo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6983280" y="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Arial"/>
              </a:rPr>
              <a:t>حل مختص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765CE-3568-4B0E-AB71-F6546E376BD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95280" y="620640"/>
            <a:ext cx="84978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 marL="280080" indent="-280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3.4 p8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How many S atoms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 are in 16.3 g of 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Strateg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How many moles in 16.3 g of S = X</a:t>
            </a: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m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1 mole </a:t>
            </a:r>
            <a:r>
              <a:rPr b="0" lang="en-GB" sz="32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6.022 x10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23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S 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    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X moles </a:t>
            </a:r>
            <a:r>
              <a:rPr b="0" lang="en-GB" sz="32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? 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5B470-5F6B-4E1B-BA71-910519445BD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617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Chapter 3: Mass Relationships in Chemical Reactions: Outlin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99ff"/>
                </a:solidFill>
                <a:latin typeface="Comic Sans MS"/>
              </a:rPr>
              <a:t>3.1 Atomic Mas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Comic Sans MS"/>
              </a:rPr>
              <a:t>3.2 Avogadro’s Number and Molar Mass of an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3.3 Molecular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3.5 Percent Composition of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3.6 Experimental Determination of Empirical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09a7"/>
                </a:solidFill>
                <a:latin typeface="Comic Sans MS"/>
              </a:rPr>
              <a:t>3.9 Limiting 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</a:rPr>
              <a:t>3.10 Reaction Yie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04629-84CC-4081-AF6D-134296E303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95280" y="404640"/>
            <a:ext cx="87487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From the periodic Table: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The atomic mass of S = 32.07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The molar mass of S = 32.07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Thus: 32.07 g </a:t>
            </a:r>
            <a:r>
              <a:rPr b="0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1 mole of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      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16.3 g of S </a:t>
            </a:r>
            <a:r>
              <a:rPr b="0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? mo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We know: 1 mol of S </a:t>
            </a:r>
            <a:r>
              <a:rPr b="0" lang="en-GB" sz="24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6.022 x10</a:t>
            </a:r>
            <a:r>
              <a:rPr b="0" lang="en-GB" sz="2400" spc="-1" strike="noStrike" baseline="30000">
                <a:solidFill>
                  <a:srgbClr val="00007d"/>
                </a:solidFill>
                <a:latin typeface="Comic Sans MS"/>
              </a:rPr>
              <a:t>23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 S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              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0.508 mole </a:t>
            </a:r>
            <a:r>
              <a:rPr b="0" lang="en-GB" sz="24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? S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There is 3.06 x10</a:t>
            </a:r>
            <a:r>
              <a:rPr b="0" lang="en-GB" sz="2400" spc="-1" strike="noStrike" baseline="30000">
                <a:solidFill>
                  <a:srgbClr val="00007d"/>
                </a:solidFill>
                <a:latin typeface="Comic Sans MS"/>
              </a:rPr>
              <a:t>23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 atoms of S in 16.3 g of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284720" y="6539040"/>
            <a:ext cx="42847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50021"/>
                </a:solidFill>
                <a:latin typeface="Comic Sans MS"/>
              </a:rPr>
              <a:t>H.W. Solve the Practice Exercise p8</a:t>
            </a:r>
            <a:r>
              <a:rPr b="1" lang="ar-SA" sz="1600" spc="-1" strike="noStrike">
                <a:solidFill>
                  <a:srgbClr val="a50021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1979640" y="3429000"/>
                <a:ext cx="41767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 x 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8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835280" y="5229360"/>
                <a:ext cx="41767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umber of S atom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2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atoms x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mol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S ato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2A7DC-40A1-4F93-8D55-E55DA6E8C77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11280" y="620640"/>
            <a:ext cx="849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How many S atoms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 are in 16.3 g of 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611280" y="1628640"/>
                <a:ext cx="7807320" cy="14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rPr>
                            <m:lit/>
                            <m:nor/>
                          </m:rPr>
                          <m:t xml:space="preserve"> g/mo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8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611280" y="3429000"/>
                <a:ext cx="7993080" cy="278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x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8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2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toms/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to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6983280" y="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Arial"/>
              </a:rPr>
              <a:t>حل مختص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2AE01-8ED5-41F5-92B2-8626E1E825B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Molecular M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olecular Mass (molecular weight)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the sum of the atomic masses (in amu) in the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molecul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(MOLECU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olecular Mass: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ultiply the atomic mass of each element by the number of atoms of that element present in the molecule and sum over all the el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e.g. Molecular Mass of H</a:t>
            </a:r>
            <a:r>
              <a:rPr b="1" lang="en-GB" sz="32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O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(2 x atomic mass of H) + (1x atomic mass of 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(2 x 1.008 amu) + (1x 16.00 amu) = 18.02 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79D33-E143-4C49-86C2-F1D214ECA7B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487080"/>
            <a:ext cx="822960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3.5 p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molecular masses (in amu)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the following compou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(a) Sulphur dioxide (SO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(b) Caffeine (C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8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N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3141720"/>
            <a:ext cx="8820000" cy="38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ecular mass of S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1 x 32.07) + (2 x 16.00) = 64.07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b) Molecular mass of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8 x 12.01) + (10 x 1.008) 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4 x 14.01) + (2 x 16.00) =194.20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422AF-A2FB-4B8C-9166-D70BA04BBAF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57200" y="620640"/>
            <a:ext cx="8229600" cy="48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H atom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9900cc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9900cc"/>
                </a:solidFill>
                <a:latin typeface="Comic Sans MS"/>
              </a:rPr>
              <a:t> 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H atoms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H</a:t>
            </a:r>
            <a:r>
              <a:rPr b="0" lang="en-GB" sz="4000" spc="-1" strike="noStrike" baseline="-25000">
                <a:solidFill>
                  <a:srgbClr val="2009a7"/>
                </a:solidFill>
                <a:latin typeface="Comic Sans MS"/>
              </a:rPr>
              <a:t>2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2009a7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2009a7"/>
                </a:solidFill>
                <a:latin typeface="Comic Sans MS"/>
              </a:rPr>
              <a:t> 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H</a:t>
            </a:r>
            <a:r>
              <a:rPr b="0" lang="en-GB" sz="4000" spc="-1" strike="noStrike" baseline="-25000">
                <a:solidFill>
                  <a:srgbClr val="2009a7"/>
                </a:solidFill>
                <a:latin typeface="Comic Sans MS"/>
              </a:rPr>
              <a:t>2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H</a:t>
            </a:r>
            <a:r>
              <a:rPr b="0" lang="en-GB" sz="4000" spc="-1" strike="noStrike" baseline="-25000">
                <a:solidFill>
                  <a:srgbClr val="2009a7"/>
                </a:solidFill>
                <a:latin typeface="Comic Sans MS"/>
              </a:rPr>
              <a:t>2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 x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2009a7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2009a7"/>
                </a:solidFill>
                <a:latin typeface="Comic Sans MS"/>
              </a:rPr>
              <a:t> 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H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2CB26-C49E-490B-9CC6-E3BE4AF2AD8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57200" y="981000"/>
            <a:ext cx="8229600" cy="48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GB" sz="40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9900cc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GB" sz="40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O molecul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CH</a:t>
            </a:r>
            <a:r>
              <a:rPr b="0" lang="en-GB" sz="4000" spc="-1" strike="noStrike" baseline="-25000">
                <a:solidFill>
                  <a:srgbClr val="2009a7"/>
                </a:solidFill>
                <a:latin typeface="Comic Sans MS"/>
              </a:rPr>
              <a:t>4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2009a7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2009a7"/>
                </a:solidFill>
                <a:latin typeface="Comic Sans MS"/>
              </a:rPr>
              <a:t> 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CH</a:t>
            </a:r>
            <a:r>
              <a:rPr b="0" lang="en-GB" sz="4000" spc="-1" strike="noStrike" baseline="-25000">
                <a:solidFill>
                  <a:srgbClr val="2009a7"/>
                </a:solidFill>
                <a:latin typeface="Comic Sans MS"/>
              </a:rPr>
              <a:t>4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512F5-9A8C-434E-A2EC-68692C572C9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2296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Example 3.6 p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ow many moles of CH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are present in 6.07 g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0920" y="2997360"/>
            <a:ext cx="8820000" cy="36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lecular Mass C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(1 x 12 .01) + (4 x 1.008) = 16.04 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Comic Sans MS"/>
              </a:rPr>
              <a:t>Molecular Mass (in amu) = Molar Mass (g/m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Comic Sans MS"/>
              </a:rPr>
              <a:t>16.04 amu = 16.04 g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us: 1 mole of C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6.04 g C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? mole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6.07 g of C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476280"/>
            <a:ext cx="8496360" cy="10810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Atomic mass (in amu) = Molar Mass (g/mol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Molecular Mass (in amu) = Molar Mass (g/m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684360" y="5805360"/>
                <a:ext cx="763272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umber of moles of CH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e x 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 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 g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78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14008-E366-4F64-B630-C092270C178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539640" y="620640"/>
            <a:ext cx="76867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ow many moles of CH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are present in 6.07 g of CH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611280" y="1700280"/>
                <a:ext cx="7920000" cy="12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78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6983280" y="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Arial"/>
              </a:rPr>
              <a:t>حل مختص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68706-D0B8-497E-9EB6-0E54DE08D87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"/>
          <p:cNvGraphicFramePr/>
          <p:nvPr/>
        </p:nvGraphicFramePr>
        <p:xfrm>
          <a:off x="-36360" y="476280"/>
          <a:ext cx="8640360" cy="2190240"/>
        </p:xfrm>
        <a:graphic>
          <a:graphicData uri="http://schemas.openxmlformats.org/drawingml/2006/table">
            <a:tbl>
              <a:tblPr/>
              <a:tblGrid>
                <a:gridCol w="664560"/>
                <a:gridCol w="665280"/>
                <a:gridCol w="7310520"/>
              </a:tblGrid>
              <a:tr h="83268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ow many molecules of ethane (C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) are present in 0.334 g of C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.01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b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6.69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.96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8.89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B6E55-E005-4FE5-8AD5-13897421415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68360" y="404640"/>
            <a:ext cx="8675640" cy="72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olecular mass of C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= (2 x 12.01) + (6 x 1.008) = 30.068 a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lecular mass (amu) = Molar mass (g/mol) = 30.068 g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0.068 g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1 m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0.334g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?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 mole of 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6.022 x 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molecules of 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0.011 mole of 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? molecules of 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971640" y="3213000"/>
                <a:ext cx="770400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umber of moles of 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e x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4 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8 g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1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250920" y="5300640"/>
                <a:ext cx="8604000" cy="13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umber of molecules of 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022x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olecule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mole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            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ecule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A4B5B-98C4-41B5-9E72-A12C2A52174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3.1 Atomic M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964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ass of an atom = mass of p + mass of n + mass of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ass of p =mass of n = 1840 mass of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Mass of atom = mass of p + mass of 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tomic mass (or atomic weight)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the mass of the atom in atomic mass unit (amu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tomic mass unit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the mass that exactly equal to one-twelfth the mass of one carbon-12 (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) at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The atomic mass of </a:t>
            </a:r>
            <a:r>
              <a:rPr b="1" lang="en-GB" sz="3200" spc="-1" strike="noStrike" baseline="30000">
                <a:solidFill>
                  <a:srgbClr val="ff0000"/>
                </a:solidFill>
                <a:latin typeface="Comic Sans MS"/>
              </a:rPr>
              <a:t>12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C = 12.00 a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E0B96-837A-4649-A856-7111A85FB0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-36360" y="476280"/>
          <a:ext cx="8640360" cy="2190240"/>
        </p:xfrm>
        <a:graphic>
          <a:graphicData uri="http://schemas.openxmlformats.org/drawingml/2006/table">
            <a:tbl>
              <a:tblPr/>
              <a:tblGrid>
                <a:gridCol w="664560"/>
                <a:gridCol w="665280"/>
                <a:gridCol w="7310520"/>
              </a:tblGrid>
              <a:tr h="83268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ow many molecules of ethane (C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) are present in 0.334 g of C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.01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b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6.69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.96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8.89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755640" y="2924280"/>
                <a:ext cx="7481880" cy="11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4 </m:t>
                        </m:r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1 mo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755640" y="4292640"/>
                <a:ext cx="6697800" cy="23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x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1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2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toms/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to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6983280" y="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Arial"/>
              </a:rPr>
              <a:t>حل مختص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852C6-E69E-4839-AC68-4ECD1370965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507520" cy="53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3.7 p87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How many hydrogen atoms are present in</a:t>
            </a:r>
            <a:r>
              <a:rPr b="0" lang="ar-SA" sz="24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25.6 g of urea [(NH</a:t>
            </a:r>
            <a:r>
              <a:rPr b="0" lang="en-GB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)</a:t>
            </a:r>
            <a:r>
              <a:rPr b="0" lang="en-GB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O]. The molar</a:t>
            </a:r>
            <a:r>
              <a:rPr b="0" lang="ar-SA" sz="24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mass of urea is</a:t>
            </a:r>
            <a:r>
              <a:rPr b="0" lang="ar-SA" sz="24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60.06 g/m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89080" y="1830240"/>
                <a:ext cx="8604000" cy="498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2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 </m:t>
                            </m:r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6 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g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mol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6 mol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x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6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2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ecules/mol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67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ecule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 molecule 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  <m:r>
                          <m:t xml:space="preserve">]</m:t>
                        </m:r>
                        <m:r>
                          <m:t xml:space="preserve">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 H atoms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567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 molecules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 ?H atom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 of H atoms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 atomx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67x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olecule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ecule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3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tom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D48FC-91FF-408F-8BE1-33AB44A7ACA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7"/>
          <p:cNvSpPr/>
          <p:nvPr/>
        </p:nvSpPr>
        <p:spPr>
          <a:xfrm>
            <a:off x="539640" y="549360"/>
            <a:ext cx="8353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H.W.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What is the mass, in grams, of one copper atom? 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a)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.055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-22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b)   63.55 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1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d)  1.66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-2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e)  9.476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1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D151C-DBEB-4C26-AD28-DF94D3C630B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68360" y="549360"/>
            <a:ext cx="727236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tomic mass of Cu = 63.55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ar mass of Cu = 63.55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63.55 g of Cu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 of C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 of Cu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6.022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u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63.55g of Cu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6.022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u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g of Cu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Cu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533520" y="5013360"/>
                <a:ext cx="779148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rams of Cu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 atom x 6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5g</m:t>
                        </m:r>
                      </m:num>
                      <m:den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22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atom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5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p>
                    </m:sSup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912F0-177D-4E40-A23D-38977223EB4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Box 7"/>
          <p:cNvSpPr/>
          <p:nvPr/>
        </p:nvSpPr>
        <p:spPr>
          <a:xfrm>
            <a:off x="539640" y="549360"/>
            <a:ext cx="8353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H.W.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What is the mass, in grams, of one copper atom? 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a)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.055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-22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b)   63.55 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1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d)  1.66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-2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e)  9.476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1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708120" y="3706920"/>
                <a:ext cx="7608960" cy="29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om</m:t>
                            </m:r>
                          </m:num>
                          <m:den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022x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atoms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 x 6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5 g/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6983280" y="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Arial"/>
              </a:rPr>
              <a:t>حل مختص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3CD0E-7F3A-45D2-A8DE-0F7356828BE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3.5 Percent Composition of Compounds: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9640" y="1847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rcent Composition by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Empirical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Molecula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708520" y="289548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صيغة الجزيئ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618D7-E311-4673-AFD9-915C315E532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3.5 Percent Composition of Compou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ercent Composition by Mas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percent by mass of each element in a comp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percent composition of an element in a compound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488240" y="4589640"/>
            <a:ext cx="5722560" cy="937800"/>
            <a:chOff x="1488240" y="4589640"/>
            <a:chExt cx="5722560" cy="937800"/>
          </a:xfrm>
        </p:grpSpPr>
        <p:sp>
          <p:nvSpPr>
            <p:cNvPr id="223" name=""/>
            <p:cNvSpPr/>
            <p:nvPr/>
          </p:nvSpPr>
          <p:spPr>
            <a:xfrm>
              <a:off x="1488240" y="4589640"/>
              <a:ext cx="462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x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olar mass of elemen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503000" y="5006880"/>
              <a:ext cx="446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olar mass of compoun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563480" y="5075280"/>
              <a:ext cx="42674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49280" y="4778280"/>
              <a:ext cx="1361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324000" y="5734080"/>
            <a:ext cx="836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number of moles of the element in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1 mo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the comp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32000" y="4581360"/>
            <a:ext cx="6192720" cy="93672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54396-C0BD-4EC0-8AC1-C8E16AB6738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"/>
          <p:cNvGrpSpPr/>
          <p:nvPr/>
        </p:nvGrpSpPr>
        <p:grpSpPr>
          <a:xfrm>
            <a:off x="147600" y="620640"/>
            <a:ext cx="3200400" cy="2568960"/>
            <a:chOff x="147600" y="620640"/>
            <a:chExt cx="3200400" cy="2568960"/>
          </a:xfrm>
        </p:grpSpPr>
        <p:pic>
          <p:nvPicPr>
            <p:cNvPr id="230" name="" descr=""/>
            <p:cNvPicPr/>
            <p:nvPr/>
          </p:nvPicPr>
          <p:blipFill>
            <a:blip r:embed="rId1"/>
            <a:stretch/>
          </p:blipFill>
          <p:spPr>
            <a:xfrm>
              <a:off x="147600" y="620640"/>
              <a:ext cx="3200400" cy="201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1156680" y="2610000"/>
              <a:ext cx="1194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1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1" lang="en-US" sz="28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1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1" lang="en-US" sz="28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2061720" y="3367080"/>
            <a:ext cx="5258520" cy="828000"/>
            <a:chOff x="2061720" y="3367080"/>
            <a:chExt cx="5258520" cy="828000"/>
          </a:xfrm>
        </p:grpSpPr>
        <p:sp>
          <p:nvSpPr>
            <p:cNvPr id="233" name=""/>
            <p:cNvSpPr/>
            <p:nvPr/>
          </p:nvSpPr>
          <p:spPr>
            <a:xfrm>
              <a:off x="2061720" y="3544920"/>
              <a:ext cx="87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%C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931120" y="3367080"/>
              <a:ext cx="190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x (12.01 g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282480" y="3735360"/>
              <a:ext cx="12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6.07 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762080" y="3544920"/>
              <a:ext cx="255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 100% = 52.14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95560" y="3792600"/>
              <a:ext cx="1752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2069640" y="4116240"/>
            <a:ext cx="5226120" cy="828000"/>
            <a:chOff x="2069640" y="4116240"/>
            <a:chExt cx="5226120" cy="828000"/>
          </a:xfrm>
        </p:grpSpPr>
        <p:sp>
          <p:nvSpPr>
            <p:cNvPr id="239" name=""/>
            <p:cNvSpPr/>
            <p:nvPr/>
          </p:nvSpPr>
          <p:spPr>
            <a:xfrm>
              <a:off x="2069640" y="4294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%H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955960" y="4116240"/>
              <a:ext cx="190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x (1.008 g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82480" y="4484520"/>
              <a:ext cx="12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6.07 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737600" y="4294080"/>
              <a:ext cx="255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 100% = 13.13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995560" y="4541760"/>
              <a:ext cx="1752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2068200" y="4878360"/>
            <a:ext cx="5276520" cy="828000"/>
            <a:chOff x="2068200" y="4878360"/>
            <a:chExt cx="5276520" cy="828000"/>
          </a:xfrm>
        </p:grpSpPr>
        <p:sp>
          <p:nvSpPr>
            <p:cNvPr id="245" name=""/>
            <p:cNvSpPr/>
            <p:nvPr/>
          </p:nvSpPr>
          <p:spPr>
            <a:xfrm>
              <a:off x="2068200" y="5056200"/>
              <a:ext cx="92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%O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931120" y="4878360"/>
              <a:ext cx="190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x (16.00 g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282480" y="5246640"/>
              <a:ext cx="12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6.07 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786560" y="5056200"/>
              <a:ext cx="255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 100% = 34.73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995560" y="5303880"/>
              <a:ext cx="1752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1959480" y="5780160"/>
            <a:ext cx="52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2.14% + 13.13% + 34.73% = 100.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84360" y="574056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Check the answ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419640" y="620640"/>
            <a:ext cx="5653080" cy="24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a50021"/>
                </a:solidFill>
                <a:uFillTx/>
                <a:latin typeface="Comic Sans MS"/>
              </a:rPr>
              <a:t>PERIODIC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Molar mass of C</a:t>
            </a:r>
            <a:r>
              <a:rPr b="0" lang="en-GB" sz="1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18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O = Molecular mass C</a:t>
            </a:r>
            <a:r>
              <a:rPr b="0" lang="en-GB" sz="1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18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(2 x 12.01) + (6 x 1.008) + (1 x16.00) = 46.07 g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009a7"/>
                </a:solidFill>
                <a:latin typeface="Comic Sans MS"/>
              </a:rPr>
              <a:t>Molar mass of C = Atomic mass of C = 12.01 g 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cc"/>
                </a:solidFill>
                <a:latin typeface="Comic Sans MS"/>
              </a:rPr>
              <a:t>Molar mass of H = Atomic mass of H = 1.008 g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Comic Sans MS"/>
              </a:rPr>
              <a:t>Molar mass of O = Atomic mass of O = 16.00 g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DC61A-E7B8-46F3-80E4-6B46218DBDD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3.8 p89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Calculate the percent composition by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of H, P, and O in H</a:t>
            </a:r>
            <a:r>
              <a:rPr b="0" lang="en-US" sz="32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PO</a:t>
            </a:r>
            <a:r>
              <a:rPr b="0" lang="en-US" sz="32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68360" y="2349360"/>
            <a:ext cx="8424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lar mass of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97.9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28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539640" y="3500280"/>
                <a:ext cx="4537080" cy="28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H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6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O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5076720" y="5529240"/>
            <a:ext cx="4067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eck the ans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.08% + 31.61% + 65.31% = 100.0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48686-2996-41B8-9C6C-D420EE24BFFD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Content Placeholder 4"/>
          <p:cNvSpPr/>
          <p:nvPr/>
        </p:nvSpPr>
        <p:spPr>
          <a:xfrm>
            <a:off x="453960" y="620640"/>
            <a:ext cx="8439120" cy="24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99"/>
                </a:solidFill>
                <a:uFillTx/>
                <a:latin typeface="Comic Sans MS"/>
              </a:rPr>
              <a:t>H.W.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Calculate the percent of nitrogen in Ca(NO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)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2.01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17.1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6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-38160" y="2967120"/>
          <a:ext cx="8077320" cy="2921040"/>
        </p:xfrm>
        <a:graphic>
          <a:graphicData uri="http://schemas.openxmlformats.org/drawingml/2006/table">
            <a:tbl>
              <a:tblPr/>
              <a:tblGrid>
                <a:gridCol w="533520"/>
                <a:gridCol w="709560"/>
                <a:gridCol w="6834240"/>
              </a:tblGrid>
              <a:tr h="1463400"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00007d"/>
                          </a:solidFill>
                          <a:uFillTx/>
                          <a:latin typeface="Comic Sans MS"/>
                          <a:ea typeface="Times New Roman"/>
                        </a:rPr>
                        <a:t>H.W.</a:t>
                      </a:r>
                      <a:r>
                        <a:rPr b="0" lang="en-GB" sz="2400" spc="-1" strike="noStrike">
                          <a:solidFill>
                            <a:srgbClr val="00007d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Comic Sans MS"/>
                        </a:rPr>
                        <a:t>All of the substances listed below are fertilizers that contribute nitrogen to the soil</a:t>
                      </a: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Comic Sans MS"/>
                        </a:rPr>
                        <a:t>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7d"/>
                          </a:solidFill>
                          <a:latin typeface="Comic Sans MS"/>
                          <a:ea typeface="Times New Roman"/>
                        </a:rPr>
                        <a:t>Which</a:t>
                      </a:r>
                      <a:r>
                        <a:rPr b="1" lang="en-US" sz="2400" spc="-1" strike="noStrike">
                          <a:solidFill>
                            <a:srgbClr val="00007d"/>
                          </a:solidFill>
                          <a:latin typeface="Comic Sans MS"/>
                        </a:rPr>
                        <a:t> of these is the richest source of nitrogen on a mass percentage basis</a:t>
                      </a:r>
                      <a:r>
                        <a:rPr b="1" lang="en-US" sz="2400" spc="-1" strike="noStrike">
                          <a:solidFill>
                            <a:srgbClr val="00007d"/>
                          </a:solidFill>
                          <a:latin typeface="Comic Sans MS"/>
                        </a:rPr>
                        <a:t>?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6520">
                <a:tc>
                  <a:txBody>
                    <a:bodyPr lIns="0" rIns="0" tIns="0" bIns="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Urea, (N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)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O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6520">
                <a:tc>
                  <a:txBody>
                    <a:bodyPr lIns="0" rIns="0" tIns="0" bIns="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mmonium nitrate, N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O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6520">
                <a:tc>
                  <a:txBody>
                    <a:bodyPr lIns="0" rIns="0" tIns="0" bIns="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Guanidine, HNC(N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)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6520">
                <a:tc>
                  <a:txBody>
                    <a:bodyPr lIns="0" rIns="0" tIns="0" bIns="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  <a:ea typeface="Times New Roman"/>
                        </a:rPr>
                        <a:t>Ammonia, NH</a:t>
                      </a:r>
                      <a:r>
                        <a:rPr b="0" lang="en-US" sz="2400" spc="-1" strike="noStrike" baseline="-25000">
                          <a:solidFill>
                            <a:srgbClr val="9900cc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" name=""/>
          <p:cNvSpPr/>
          <p:nvPr/>
        </p:nvSpPr>
        <p:spPr>
          <a:xfrm>
            <a:off x="539640" y="5877000"/>
            <a:ext cx="59770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00cc"/>
                </a:solidFill>
                <a:latin typeface="Comic Sans MS"/>
              </a:rPr>
              <a:t>ايا من هذه المواد هواغنى مصدر للنيتروجين على اساس احتوائه على اكبر نسبه وزنيه من النيتروجين؟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588000" y="5137200"/>
            <a:ext cx="2305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%N = 46.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%N = 5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%N = 71.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%N = 82.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061B0-432D-45EE-B266-753D379B06A1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79280" y="620640"/>
            <a:ext cx="896472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The atomic mass of </a:t>
            </a:r>
            <a:r>
              <a:rPr b="1" lang="en-GB" sz="3200" spc="-1" strike="noStrike" baseline="30000">
                <a:solidFill>
                  <a:srgbClr val="ff0000"/>
                </a:solidFill>
                <a:latin typeface="Comic Sans MS"/>
              </a:rPr>
              <a:t>12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C = 12.00 a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baseline="30000">
                <a:solidFill>
                  <a:srgbClr val="9999ff"/>
                </a:solidFill>
                <a:latin typeface="Comic Sans MS"/>
              </a:rPr>
              <a:t>12</a:t>
            </a:r>
            <a:r>
              <a:rPr b="1" lang="en-GB" sz="3200" spc="-1" strike="noStrike">
                <a:solidFill>
                  <a:srgbClr val="9999ff"/>
                </a:solidFill>
                <a:latin typeface="Comic Sans MS"/>
              </a:rPr>
              <a:t>C is the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e.g. Hydrogen atom 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is only 8.4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assive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s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Thus: the atomic mass of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H = 0.084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12.0 amu= 1.008 amu and so on for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other el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9F07D-A637-4103-809D-6122FFC762E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Determination of the Empirical Formula from the Percent Composition by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22280" y="1557360"/>
            <a:ext cx="86868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omic Sans MS"/>
              </a:rPr>
              <a:t>Example: Determine the empirical formula of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omic Sans MS"/>
              </a:rPr>
              <a:t>compound that has the following percent composition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omic Sans MS"/>
              </a:rPr>
              <a:t>mass: K 24.75, Mn 34.77, O 40.51 perc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7227720" y="2924280"/>
            <a:ext cx="1916280" cy="393372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34920" y="3141720"/>
            <a:ext cx="72738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nvert to grams &amp; divide by the molar mas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umber of m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us </a:t>
            </a: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24.75g of K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34.77g of Mn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, &amp;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40.51g of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28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2627280" y="5084640"/>
                <a:ext cx="2741760" cy="173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</m:t>
                        </m:r>
                        <m:r>
                          <m:rPr>
                            <m:lit/>
                            <m:nor/>
                          </m:rPr>
                          <m:t xml:space="preserve"> mol of K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mol of Mn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32</m:t>
                        </m:r>
                        <m:r>
                          <m:rPr>
                            <m:lit/>
                            <m:nor/>
                          </m:rPr>
                          <m:t xml:space="preserve"> mol of 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7308720" y="350028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308720" y="46530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308720" y="57992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FE179-7BDD-44F4-8737-8DE5EF84068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 Divide by the smallest number of moles: 0.632 mo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e ratio of the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. All are integer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 the Empirical Formula of the compound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n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9900cc"/>
                </a:solidFill>
                <a:latin typeface="Comic Sans MS"/>
              </a:rPr>
              <a:t>KMnO</a:t>
            </a:r>
            <a:r>
              <a:rPr b="0" lang="en-GB" sz="60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755640" y="1506600"/>
                <a:ext cx="77119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         </m:t>
                    </m:r>
                    <m:r>
                      <m:rPr>
                        <m:lit/>
                        <m:nor/>
                      </m:rPr>
                      <m:t xml:space="preserve">M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t xml:space="preserve">O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32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0008A-D048-457D-BCF3-CB0700441BA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95280" y="120600"/>
            <a:ext cx="800424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Percent Composition and Empirical Formu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omic Sans MS"/>
                <a:ea typeface="Times New Roman"/>
              </a:rPr>
              <a:t>Q: Determine the empirical formula of a compound that has the following percent composition by mass: K 24.75, Mn 34.77, O 40.51 perc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393920" y="3139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592200" y="1484280"/>
          <a:ext cx="7364520" cy="2689200"/>
        </p:xfrm>
        <a:graphic>
          <a:graphicData uri="http://schemas.openxmlformats.org/drawingml/2006/table">
            <a:tbl>
              <a:tblPr/>
              <a:tblGrid>
                <a:gridCol w="2863800"/>
                <a:gridCol w="1459080"/>
                <a:gridCol w="1582560"/>
                <a:gridCol w="1459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M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% 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100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4.75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4.77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0.51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n=m/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4.75/39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0.633m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4.77/54.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0.6329m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0.51/16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2.532m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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on smallest no. of m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0.633/0.6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0.6329/0.6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.532/0.6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The empirical formula 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n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MnO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>
            <a:off x="623880" y="4403880"/>
            <a:ext cx="76201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c00000"/>
                </a:solidFill>
                <a:latin typeface="Comic Sans MS"/>
                <a:cs typeface="Times New Roman"/>
              </a:rPr>
              <a:t>خطوات الح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نشأ جدول نضع فيه العناصر المذكورة في السؤا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عتبر أن النسبة المئوية معبر عنها بالجرام فلو كان عندنا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00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جرام من المركب فهذه ال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00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جرام موزعة على العناصر حسب نسبتها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وجد عدد المولات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لكل عنصر باستخدام القانون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=m/M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قسم عدد المولات على أصغر مول من العناص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الأرقام التي نحصل عليها تمثل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mpirical formula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بشرط أن تكون أعداد صحيحة كما في المثال الساب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في حالة ظهور أعداد عشرية نقوم بضرب الأرقام التي في الأسفل الموجودة في الصيغة بأعداد بدأ من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،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...... حتى نحصل على أعداد صحيحة 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08000" y="6508800"/>
            <a:ext cx="3743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cc"/>
                </a:solidFill>
                <a:latin typeface="Comic Sans MS"/>
              </a:rPr>
              <a:t>Courtesy of Dr. Fawzia Albelw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28FC2-65B4-437C-8886-D0B69A23DEAD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Determination of the Empirical Formula from the Percent Composition by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22280" y="1557000"/>
            <a:ext cx="86868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Example 3.9 p9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scorbic acid composed of 40.92% C, 4.58% H, and 54.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 by mass. Determine its empirical form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7227720" y="2924280"/>
            <a:ext cx="1916280" cy="393372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250920" y="3141720"/>
            <a:ext cx="6913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us 40.92g of C, 4.58g of H, &amp; 54.50g of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28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826920" y="4216320"/>
                <a:ext cx="3745080" cy="25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7</m:t>
                        </m:r>
                        <m:r>
                          <m:rPr>
                            <m:lit/>
                            <m:nor/>
                          </m:rPr>
                          <m:t xml:space="preserve"> mol of C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8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8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rPr>
                            <m:lit/>
                            <m:nor/>
                          </m:rPr>
                          <m:t xml:space="preserve"> mol of H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6</m:t>
                        </m:r>
                        <m:r>
                          <m:rPr>
                            <m:lit/>
                            <m:nor/>
                          </m:rPr>
                          <m:t xml:space="preserve"> mol of 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7308720" y="350028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308720" y="46530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308720" y="57992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D4C29-CF2D-4674-A409-04BDC4F30085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. Not all numbers ar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Convert 1.33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te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rail-and error proced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.33 x 2 = 2.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.33 x 3 = 3.99 ≈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K. multiply all the numbers by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= 3             H =4         O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 the Empirical Formula of ascorbic acid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971640" y="620640"/>
                <a:ext cx="79214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7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6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         </m:t>
                    </m:r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t xml:space="preserve">O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6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FBE56-9140-4E85-9020-8D5CDA392267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393920" y="3139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539640" y="1484280"/>
          <a:ext cx="7004160" cy="3268800"/>
        </p:xfrm>
        <a:graphic>
          <a:graphicData uri="http://schemas.openxmlformats.org/drawingml/2006/table">
            <a:tbl>
              <a:tblPr/>
              <a:tblGrid>
                <a:gridCol w="2503440"/>
                <a:gridCol w="1459080"/>
                <a:gridCol w="1582560"/>
                <a:gridCol w="1459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% 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100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0.92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.58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54.50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n=m/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0.92/12.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3.407m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.58/1.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4.54.m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54.50/16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3.406 m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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on smallest no. of m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407/3.4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0.4.54/3.4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1.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406/3.4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Convert into integer x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99 =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The empirical formula 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93" name=""/>
          <p:cNvSpPr/>
          <p:nvPr/>
        </p:nvSpPr>
        <p:spPr>
          <a:xfrm>
            <a:off x="1055520" y="4566240"/>
            <a:ext cx="7620120" cy="23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c00000"/>
                </a:solidFill>
                <a:latin typeface="Comic Sans MS"/>
                <a:cs typeface="Times New Roman"/>
              </a:rPr>
              <a:t>خطوات الح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نشأ جدول نضع فيه العناصر المذكورة في السؤا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عتبر أن النسبة المئوية معبر عنها بالجرام فلو كان عندنا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00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جرام من المركب فهذه ال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00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جرام موزعة على العناصر حسب نسبتها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وجد عدد المولات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لكل عنصر باستخدام القانون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=m/M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قسم عدد المولات على أصغر مول من العناص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الأرقام التي نحصل عليها تمثل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mpirical formula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بشرط أن تكون أعداد صحيحة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في حالة ظهور أعداد عشرية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ما في المثال السابق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نقوم بضرب الأرقام التي في الأسفل الموجودة في الصيغة بأعداد بدأ من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،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...... حتى نحصل على أعداد صحيحة 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2280" y="333360"/>
            <a:ext cx="8686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Example 3.9 p90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scorbic acid composed of 40.92% C, 4.58% H, and 54.5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O by mass. Determine its empirical formu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B55D1-0C1D-4D6F-8005-6E854AA37DB1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Determination of the Molecular Formula from the Percent Composition by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Example 3.11 p9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 sample compound contains 1.52g of N and 3.47g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. The molar mass of this compound is between 90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nd 95g. Determine the molecular formul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50920" y="3141720"/>
            <a:ext cx="6913440" cy="38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Thus the empirical formula is: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684360" y="3645000"/>
                <a:ext cx="3456000" cy="15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  <m:r>
                          <m:rPr>
                            <m:lit/>
                            <m:nor/>
                          </m:rPr>
                          <m:t xml:space="preserve"> mol of N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7</m:t>
                        </m:r>
                        <m:r>
                          <m:rPr>
                            <m:lit/>
                            <m:nor/>
                          </m:rPr>
                          <m:t xml:space="preserve"> mol of 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684360" y="5445000"/>
                <a:ext cx="583236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                           </m:t>
                    </m:r>
                    <m:r>
                      <m:t xml:space="preserve">O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7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6588000" y="3213000"/>
            <a:ext cx="2484720" cy="2960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esent Composition by M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mpirical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lecular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C20C8-0106-4AB0-8453-C1F57EFB316C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. The molar mass of the empirical formula N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= 14.01 + (2x16.00) = 46.01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5. The ratio between the empirical formula and the molecular formu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6. The molecular formula is (N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= N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281160" y="3343320"/>
                <a:ext cx="508284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tio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olar mass of compoun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mpirical molar mas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5435640" y="3284640"/>
                <a:ext cx="295272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tio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8" name=""/>
          <p:cNvSpPr/>
          <p:nvPr/>
        </p:nvSpPr>
        <p:spPr>
          <a:xfrm>
            <a:off x="7740720" y="327816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9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5013B-4653-4D8B-9AFF-B1546ED22D02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Content Placeholder 4"/>
          <p:cNvSpPr/>
          <p:nvPr/>
        </p:nvSpPr>
        <p:spPr>
          <a:xfrm>
            <a:off x="468360" y="549360"/>
            <a:ext cx="8294760" cy="24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Comic Sans MS"/>
              </a:rPr>
              <a:t>H.W.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Which of the following is an empirical 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SO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444600" y="2971800"/>
            <a:ext cx="85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Comic Sans MS"/>
              </a:rPr>
              <a:t>H.W.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A sample of acid compound contains 40.1 percent of C, 6.6 percent of H, and 53.3 percent of O. The molar mass of this compound is 60 g/mol . What is the molecular formula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4"/>
          <p:cNvSpPr/>
          <p:nvPr/>
        </p:nvSpPr>
        <p:spPr>
          <a:xfrm>
            <a:off x="324000" y="4611600"/>
            <a:ext cx="4267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2520" indent="-3430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68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68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68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68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400"/>
              </a:spcBef>
              <a:buClr>
                <a:srgbClr val="9999f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400"/>
              </a:spcBef>
              <a:buClr>
                <a:srgbClr val="9999f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492360" y="1052640"/>
            <a:ext cx="45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ايا منهم لايمكن تبسيطه اكثر مما هو عليه؟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7DF34-969B-4960-8053-2383E81EDB0F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4604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3.7 Chemical Reactions and Chemical Equ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04920" y="1700280"/>
            <a:ext cx="642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emical React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a process in which one or more substances is changed into one or more new substa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04920" y="4268880"/>
            <a:ext cx="883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emical Equation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uses chemical symbols to show what happens during a chemical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2293920" y="6005520"/>
            <a:ext cx="4300560" cy="520560"/>
            <a:chOff x="2293920" y="6005520"/>
            <a:chExt cx="4300560" cy="520560"/>
          </a:xfrm>
        </p:grpSpPr>
        <p:sp>
          <p:nvSpPr>
            <p:cNvPr id="318" name=""/>
            <p:cNvSpPr/>
            <p:nvPr/>
          </p:nvSpPr>
          <p:spPr>
            <a:xfrm>
              <a:off x="2293920" y="6005520"/>
              <a:ext cx="174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reactan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044960" y="62578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927680" y="6005520"/>
              <a:ext cx="166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produc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1" name="" descr=""/>
          <p:cNvPicPr/>
          <p:nvPr/>
        </p:nvPicPr>
        <p:blipFill>
          <a:blip r:embed="rId1"/>
          <a:srcRect l="2012" t="1995" r="0" b="0"/>
          <a:stretch/>
        </p:blipFill>
        <p:spPr>
          <a:xfrm>
            <a:off x="6823080" y="476280"/>
            <a:ext cx="2141640" cy="216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76E26-C809-43DC-B028-89CFE0914BDF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153640" cy="6032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37999-E965-4DB8-A26C-6EBEEA68B6C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863640" y="4548240"/>
            <a:ext cx="7885080" cy="219384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179280" y="692280"/>
            <a:ext cx="871236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 ways of representing the reaction of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ith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o form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539640" y="3357720"/>
            <a:ext cx="8425080" cy="49680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826920" y="1916280"/>
            <a:ext cx="8137800" cy="622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DA3E9-9DAC-4992-890E-E1AD10B417C0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576360" y="404640"/>
            <a:ext cx="8567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How to “Read” Chemical Equa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2734560" y="1614600"/>
            <a:ext cx="3841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Mg +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2 M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4"/>
          <p:cNvSpPr/>
          <p:nvPr/>
        </p:nvSpPr>
        <p:spPr>
          <a:xfrm>
            <a:off x="4513320" y="191124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-324000" y="2535120"/>
            <a:ext cx="9252000" cy="19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 atoms Mg + 1 molecule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akes 2 formula units M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moles Mg + 1 mole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akes 2 moles M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48.6</a:t>
            </a: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ams Mg +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32.0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ams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akes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80.6</a:t>
            </a: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 M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1"/>
          <p:cNvSpPr/>
          <p:nvPr/>
        </p:nvSpPr>
        <p:spPr>
          <a:xfrm>
            <a:off x="1177920" y="4797360"/>
            <a:ext cx="694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2 grams Mg + 1 gram O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makes 2 g M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956720" y="4437000"/>
            <a:ext cx="100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a50021"/>
                </a:solidFill>
                <a:latin typeface="Arial"/>
              </a:rPr>
              <a:t>X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531280" y="3603600"/>
            <a:ext cx="100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8315280" y="2924280"/>
            <a:ext cx="100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8242200" y="2276640"/>
            <a:ext cx="100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3640" y="420516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Molar m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732720" y="15573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33"/>
                </a:solidFill>
                <a:latin typeface="Comic Sans MS"/>
              </a:rPr>
              <a:t>Read 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627DD-8539-4150-807C-E9BE7B6D26A1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3"/>
          <p:cNvSpPr/>
          <p:nvPr/>
        </p:nvSpPr>
        <p:spPr>
          <a:xfrm>
            <a:off x="212760" y="1208160"/>
            <a:ext cx="855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mula/s for the reactant/s on the left side and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mula/s for the product/s on the right side of the equ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Balancing Chemical Equ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39640" y="305928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00cc"/>
                </a:solidFill>
                <a:latin typeface="Arial"/>
              </a:rPr>
              <a:t>نكتب </a:t>
            </a:r>
            <a:r>
              <a:rPr b="0" lang="ar-SA" sz="2800" spc="-1" strike="noStrike" u="sng">
                <a:solidFill>
                  <a:srgbClr val="9900cc"/>
                </a:solidFill>
                <a:uFillTx/>
                <a:latin typeface="Arial"/>
              </a:rPr>
              <a:t>الصيغه الصحيحه</a:t>
            </a:r>
            <a:r>
              <a:rPr b="0" lang="ar-SA" sz="2800" spc="-1" strike="noStrike">
                <a:solidFill>
                  <a:srgbClr val="9900cc"/>
                </a:solidFill>
                <a:latin typeface="Arial"/>
              </a:rPr>
              <a:t> لكل متفاعل (على الطرف الايسر) ولكل ناتج (على الطرف الايمن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E3537-7C6C-4660-949A-C672D62A4D97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8"/>
          <p:cNvSpPr/>
          <p:nvPr/>
        </p:nvSpPr>
        <p:spPr>
          <a:xfrm>
            <a:off x="343080" y="476280"/>
            <a:ext cx="855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nge the numbers in front of the formulas (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coefficient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to make the number of atoms of each element the same on both sides of the equation.  Do not change the subscrip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14"/>
          <p:cNvGrpSpPr/>
          <p:nvPr/>
        </p:nvGrpSpPr>
        <p:grpSpPr>
          <a:xfrm>
            <a:off x="2626200" y="2395440"/>
            <a:ext cx="3627360" cy="680400"/>
            <a:chOff x="2626200" y="2395440"/>
            <a:chExt cx="3627360" cy="680400"/>
          </a:xfrm>
        </p:grpSpPr>
        <p:sp>
          <p:nvSpPr>
            <p:cNvPr id="342" name="Text Box 9"/>
            <p:cNvSpPr/>
            <p:nvPr/>
          </p:nvSpPr>
          <p:spPr>
            <a:xfrm>
              <a:off x="2626200" y="2427120"/>
              <a:ext cx="1241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00"/>
                  </a:solidFill>
                  <a:latin typeface="Comic Sans MS"/>
                </a:rPr>
                <a:t>2C</a:t>
              </a:r>
              <a:r>
                <a:rPr b="0" lang="en-US" sz="3200" spc="-1" strike="noStrike" baseline="-25000">
                  <a:solidFill>
                    <a:srgbClr val="003300"/>
                  </a:solidFill>
                  <a:latin typeface="Comic Sans MS"/>
                </a:rPr>
                <a:t>2</a:t>
              </a:r>
              <a:r>
                <a:rPr b="0" lang="en-US" sz="3200" spc="-1" strike="noStrike">
                  <a:solidFill>
                    <a:srgbClr val="003300"/>
                  </a:solidFill>
                  <a:latin typeface="Comic Sans MS"/>
                </a:rPr>
                <a:t>H</a:t>
              </a:r>
              <a:r>
                <a:rPr b="0" lang="en-US" sz="3200" spc="-1" strike="noStrike" baseline="-25000">
                  <a:solidFill>
                    <a:srgbClr val="003300"/>
                  </a:solidFill>
                  <a:latin typeface="Comic Sans MS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12"/>
            <p:cNvSpPr/>
            <p:nvPr/>
          </p:nvSpPr>
          <p:spPr>
            <a:xfrm>
              <a:off x="3905640" y="2395440"/>
              <a:ext cx="95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NO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13"/>
            <p:cNvSpPr/>
            <p:nvPr/>
          </p:nvSpPr>
          <p:spPr>
            <a:xfrm>
              <a:off x="5111280" y="2427120"/>
              <a:ext cx="1142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00"/>
                  </a:solidFill>
                  <a:latin typeface="Comic Sans MS"/>
                </a:rPr>
                <a:t>C</a:t>
              </a:r>
              <a:r>
                <a:rPr b="0" lang="en-US" sz="3200" spc="-1" strike="noStrike" baseline="-25000">
                  <a:solidFill>
                    <a:srgbClr val="003300"/>
                  </a:solidFill>
                  <a:latin typeface="Comic Sans MS"/>
                </a:rPr>
                <a:t>4</a:t>
              </a:r>
              <a:r>
                <a:rPr b="0" lang="en-US" sz="3200" spc="-1" strike="noStrike">
                  <a:solidFill>
                    <a:srgbClr val="003300"/>
                  </a:solidFill>
                  <a:latin typeface="Comic Sans MS"/>
                </a:rPr>
                <a:t>H</a:t>
              </a:r>
              <a:r>
                <a:rPr b="0" lang="en-US" sz="3200" spc="-1" strike="noStrike" baseline="-25000">
                  <a:solidFill>
                    <a:srgbClr val="003300"/>
                  </a:solidFill>
                  <a:latin typeface="Comic Sans MS"/>
                </a:rPr>
                <a:t>1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468360" y="321300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900cc"/>
                </a:solidFill>
                <a:latin typeface="Arial"/>
              </a:rPr>
              <a:t>وزن المعادله الكيميائيه يكون بتغير  الارقام التي بجانب الصيغه </a:t>
            </a:r>
            <a:r>
              <a:rPr b="0" lang="ar-SA" sz="3200" spc="-1" strike="noStrike" u="sng">
                <a:solidFill>
                  <a:srgbClr val="9900cc"/>
                </a:solidFill>
                <a:uFillTx/>
                <a:latin typeface="Arial"/>
              </a:rPr>
              <a:t>وليست التي تحتها</a:t>
            </a:r>
            <a:r>
              <a:rPr b="0" lang="ar-SA" sz="3200" spc="-1" strike="noStrike">
                <a:solidFill>
                  <a:srgbClr val="9900cc"/>
                </a:solidFill>
                <a:latin typeface="Arial"/>
              </a:rPr>
              <a:t> بحيث يكون للعنصر نفس العدد على طرفي المعادله</a:t>
            </a:r>
            <a:r>
              <a:rPr b="0" lang="ar-SA" sz="3200" spc="-1" strike="noStrike">
                <a:solidFill>
                  <a:srgbClr val="9900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D708D-2665-464F-81E3-872F8A12266B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3"/>
          <p:cNvSpPr/>
          <p:nvPr/>
        </p:nvSpPr>
        <p:spPr>
          <a:xfrm>
            <a:off x="212760" y="692280"/>
            <a:ext cx="8550360" cy="32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rt by balancing those elements that appear in only one reactant and one produ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lance those elements that appear in two or more reactants or produc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55640" y="162864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00cc"/>
                </a:solidFill>
                <a:uFillTx/>
                <a:latin typeface="Arial"/>
              </a:rPr>
              <a:t>توزن اولا العناصر الاقل ظهور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979640" y="336384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00cc"/>
                </a:solidFill>
                <a:uFillTx/>
                <a:latin typeface="Arial"/>
              </a:rPr>
              <a:t>ثم توزن العناصر الاكثر ظهور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3"/>
          <p:cNvSpPr/>
          <p:nvPr/>
        </p:nvSpPr>
        <p:spPr>
          <a:xfrm>
            <a:off x="250920" y="4221000"/>
            <a:ext cx="855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90000"/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eck to make sure that you have the same number of each type of atom on both sides of the equ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24000" y="551664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900cc"/>
                </a:solidFill>
                <a:latin typeface="Arial"/>
              </a:rPr>
              <a:t>الخطوه الاخيره هي التأكد من ان لديك نفس العدد من الذرات لكل عنصر على طرفي المعادل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87C63-1BDA-4A8A-9283-B95460100E01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407880" y="328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324000" y="2421000"/>
            <a:ext cx="855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mula/s for the reactant/s on the left side and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mula/s for the product/s on the right side of the equ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324000" y="93816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Nitrogen monoxide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reacts with oxygen to form nitrogen dioxide 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balance this rea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1476360" y="4437000"/>
                <a:ext cx="540072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5F899-5528-44DA-AD82-21A1B8487514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3"/>
          <p:cNvSpPr/>
          <p:nvPr/>
        </p:nvSpPr>
        <p:spPr>
          <a:xfrm>
            <a:off x="281160" y="519120"/>
            <a:ext cx="855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Start by balancing those elements that appear in only one reactant and one produc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5"/>
          <p:cNvSpPr/>
          <p:nvPr/>
        </p:nvSpPr>
        <p:spPr>
          <a:xfrm>
            <a:off x="4994280" y="1773360"/>
            <a:ext cx="28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start with N  not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Group 24"/>
          <p:cNvGrpSpPr/>
          <p:nvPr/>
        </p:nvGrpSpPr>
        <p:grpSpPr>
          <a:xfrm>
            <a:off x="271800" y="2276280"/>
            <a:ext cx="1671120" cy="1359000"/>
            <a:chOff x="271800" y="2276280"/>
            <a:chExt cx="1671120" cy="1359000"/>
          </a:xfrm>
        </p:grpSpPr>
        <p:sp>
          <p:nvSpPr>
            <p:cNvPr id="359" name="Line 17"/>
            <p:cNvSpPr/>
            <p:nvPr/>
          </p:nvSpPr>
          <p:spPr>
            <a:xfrm flipV="1">
              <a:off x="1104840" y="2276280"/>
              <a:ext cx="0" cy="45684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18"/>
            <p:cNvSpPr/>
            <p:nvPr/>
          </p:nvSpPr>
          <p:spPr>
            <a:xfrm>
              <a:off x="271800" y="2809800"/>
              <a:ext cx="1671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 nitr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25"/>
          <p:cNvGrpSpPr/>
          <p:nvPr/>
        </p:nvGrpSpPr>
        <p:grpSpPr>
          <a:xfrm>
            <a:off x="3054600" y="2276280"/>
            <a:ext cx="1671120" cy="1359000"/>
            <a:chOff x="3054600" y="2276280"/>
            <a:chExt cx="1671120" cy="1359000"/>
          </a:xfrm>
        </p:grpSpPr>
        <p:sp>
          <p:nvSpPr>
            <p:cNvPr id="362" name="Line 21"/>
            <p:cNvSpPr/>
            <p:nvPr/>
          </p:nvSpPr>
          <p:spPr>
            <a:xfrm flipV="1">
              <a:off x="3889080" y="2276280"/>
              <a:ext cx="0" cy="45684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22"/>
            <p:cNvSpPr/>
            <p:nvPr/>
          </p:nvSpPr>
          <p:spPr>
            <a:xfrm>
              <a:off x="3054600" y="2809800"/>
              <a:ext cx="1671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 nitr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r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755640" y="1628640"/>
                <a:ext cx="396072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5" name="Text Box 15"/>
          <p:cNvSpPr/>
          <p:nvPr/>
        </p:nvSpPr>
        <p:spPr>
          <a:xfrm>
            <a:off x="5485320" y="2997360"/>
            <a:ext cx="22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N is balance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07917-1FB8-4167-B2DA-DD201F868DBF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30"/>
          <p:cNvGrpSpPr/>
          <p:nvPr/>
        </p:nvGrpSpPr>
        <p:grpSpPr>
          <a:xfrm>
            <a:off x="1260000" y="2276280"/>
            <a:ext cx="1483920" cy="1359000"/>
            <a:chOff x="1260000" y="2276280"/>
            <a:chExt cx="1483920" cy="1359000"/>
          </a:xfrm>
        </p:grpSpPr>
        <p:sp>
          <p:nvSpPr>
            <p:cNvPr id="367" name="Line 31"/>
            <p:cNvSpPr/>
            <p:nvPr/>
          </p:nvSpPr>
          <p:spPr>
            <a:xfrm flipV="1">
              <a:off x="1998360" y="2276280"/>
              <a:ext cx="0" cy="45684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 Box 32"/>
            <p:cNvSpPr/>
            <p:nvPr/>
          </p:nvSpPr>
          <p:spPr>
            <a:xfrm>
              <a:off x="1260000" y="2809800"/>
              <a:ext cx="1483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3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Group 33"/>
          <p:cNvGrpSpPr/>
          <p:nvPr/>
        </p:nvGrpSpPr>
        <p:grpSpPr>
          <a:xfrm>
            <a:off x="3490200" y="2205000"/>
            <a:ext cx="1483920" cy="1359000"/>
            <a:chOff x="3490200" y="2205000"/>
            <a:chExt cx="1483920" cy="1359000"/>
          </a:xfrm>
        </p:grpSpPr>
        <p:sp>
          <p:nvSpPr>
            <p:cNvPr id="370" name="Line 34"/>
            <p:cNvSpPr/>
            <p:nvPr/>
          </p:nvSpPr>
          <p:spPr>
            <a:xfrm flipV="1">
              <a:off x="4230360" y="220500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35"/>
            <p:cNvSpPr/>
            <p:nvPr/>
          </p:nvSpPr>
          <p:spPr>
            <a:xfrm>
              <a:off x="3490200" y="2738520"/>
              <a:ext cx="1483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r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Text Box 36"/>
          <p:cNvSpPr/>
          <p:nvPr/>
        </p:nvSpPr>
        <p:spPr>
          <a:xfrm>
            <a:off x="5364000" y="2205000"/>
            <a:ext cx="3311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multiply NO by 2 and NO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b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755640" y="1557360"/>
                <a:ext cx="396072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684360" y="3689280"/>
                <a:ext cx="453384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NO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75" name="Text Box 3"/>
          <p:cNvSpPr/>
          <p:nvPr/>
        </p:nvSpPr>
        <p:spPr>
          <a:xfrm>
            <a:off x="212760" y="549360"/>
            <a:ext cx="855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lance those elements that appear in two or more reactants or produc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Group 30"/>
          <p:cNvGrpSpPr/>
          <p:nvPr/>
        </p:nvGrpSpPr>
        <p:grpSpPr>
          <a:xfrm>
            <a:off x="75960" y="4581360"/>
            <a:ext cx="3624840" cy="1359000"/>
            <a:chOff x="75960" y="4581360"/>
            <a:chExt cx="3624840" cy="1359000"/>
          </a:xfrm>
        </p:grpSpPr>
        <p:sp>
          <p:nvSpPr>
            <p:cNvPr id="377" name="Line 31"/>
            <p:cNvSpPr/>
            <p:nvPr/>
          </p:nvSpPr>
          <p:spPr>
            <a:xfrm flipV="1">
              <a:off x="1876320" y="458136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32"/>
            <p:cNvSpPr/>
            <p:nvPr/>
          </p:nvSpPr>
          <p:spPr>
            <a:xfrm>
              <a:off x="75960" y="5114880"/>
              <a:ext cx="3624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oxygen + 2 oxygen =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Group 30"/>
          <p:cNvGrpSpPr/>
          <p:nvPr/>
        </p:nvGrpSpPr>
        <p:grpSpPr>
          <a:xfrm>
            <a:off x="3800880" y="4737240"/>
            <a:ext cx="2483640" cy="1359000"/>
            <a:chOff x="3800880" y="4737240"/>
            <a:chExt cx="2483640" cy="1359000"/>
          </a:xfrm>
        </p:grpSpPr>
        <p:sp>
          <p:nvSpPr>
            <p:cNvPr id="380" name="Line 31"/>
            <p:cNvSpPr/>
            <p:nvPr/>
          </p:nvSpPr>
          <p:spPr>
            <a:xfrm flipV="1">
              <a:off x="5033880" y="473724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32"/>
            <p:cNvSpPr/>
            <p:nvPr/>
          </p:nvSpPr>
          <p:spPr>
            <a:xfrm>
              <a:off x="3800880" y="5270760"/>
              <a:ext cx="2483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x 2 = 4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r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Text Box 15"/>
          <p:cNvSpPr/>
          <p:nvPr/>
        </p:nvSpPr>
        <p:spPr>
          <a:xfrm>
            <a:off x="6442920" y="5084640"/>
            <a:ext cx="22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 is balance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E627D-AA39-4968-8090-A4387A1DE7E9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3"/>
          <p:cNvSpPr/>
          <p:nvPr/>
        </p:nvSpPr>
        <p:spPr>
          <a:xfrm>
            <a:off x="212760" y="592200"/>
            <a:ext cx="855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eck to make sure that you have the same number of each type of atom on both sides of the equ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34"/>
          <p:cNvGrpSpPr/>
          <p:nvPr/>
        </p:nvGrpSpPr>
        <p:grpSpPr>
          <a:xfrm>
            <a:off x="408600" y="2125800"/>
            <a:ext cx="3875760" cy="511560"/>
            <a:chOff x="408600" y="2125800"/>
            <a:chExt cx="3875760" cy="511560"/>
          </a:xfrm>
        </p:grpSpPr>
        <p:sp>
          <p:nvSpPr>
            <p:cNvPr id="385" name="Text Box 35"/>
            <p:cNvSpPr/>
            <p:nvPr/>
          </p:nvSpPr>
          <p:spPr>
            <a:xfrm>
              <a:off x="408600" y="2125800"/>
              <a:ext cx="1494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7d"/>
                  </a:solidFill>
                  <a:latin typeface="Comic Sans MS"/>
                </a:rPr>
                <a:t>2NO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36"/>
            <p:cNvSpPr/>
            <p:nvPr/>
          </p:nvSpPr>
          <p:spPr>
            <a:xfrm>
              <a:off x="2374920" y="2354400"/>
              <a:ext cx="76212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37"/>
            <p:cNvSpPr/>
            <p:nvPr/>
          </p:nvSpPr>
          <p:spPr>
            <a:xfrm>
              <a:off x="3281040" y="2127240"/>
              <a:ext cx="1003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N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48"/>
          <p:cNvGrpSpPr/>
          <p:nvPr/>
        </p:nvGrpSpPr>
        <p:grpSpPr>
          <a:xfrm>
            <a:off x="5252040" y="3843360"/>
            <a:ext cx="3644640" cy="1789200"/>
            <a:chOff x="5252040" y="3843360"/>
            <a:chExt cx="3644640" cy="1789200"/>
          </a:xfrm>
        </p:grpSpPr>
        <p:sp>
          <p:nvSpPr>
            <p:cNvPr id="389" name="Text Box 38"/>
            <p:cNvSpPr/>
            <p:nvPr/>
          </p:nvSpPr>
          <p:spPr>
            <a:xfrm>
              <a:off x="5252040" y="384336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Reacta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39"/>
            <p:cNvSpPr/>
            <p:nvPr/>
          </p:nvSpPr>
          <p:spPr>
            <a:xfrm>
              <a:off x="7441920" y="3843360"/>
              <a:ext cx="145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Produc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40"/>
            <p:cNvSpPr/>
            <p:nvPr/>
          </p:nvSpPr>
          <p:spPr>
            <a:xfrm>
              <a:off x="5334120" y="4260960"/>
              <a:ext cx="3504960" cy="0"/>
            </a:xfrm>
            <a:prstGeom prst="line">
              <a:avLst/>
            </a:prstGeom>
            <a:ln w="255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 Box 41"/>
            <p:cNvSpPr/>
            <p:nvPr/>
          </p:nvSpPr>
          <p:spPr>
            <a:xfrm>
              <a:off x="5690880" y="4336920"/>
              <a:ext cx="66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42"/>
            <p:cNvSpPr/>
            <p:nvPr/>
          </p:nvSpPr>
          <p:spPr>
            <a:xfrm>
              <a:off x="5518080" y="47563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Text Box 43"/>
            <p:cNvSpPr/>
            <p:nvPr/>
          </p:nvSpPr>
          <p:spPr>
            <a:xfrm>
              <a:off x="5486400" y="51753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Text Box 44"/>
            <p:cNvSpPr/>
            <p:nvPr/>
          </p:nvSpPr>
          <p:spPr>
            <a:xfrm>
              <a:off x="7894440" y="4336920"/>
              <a:ext cx="66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 Box 45"/>
            <p:cNvSpPr/>
            <p:nvPr/>
          </p:nvSpPr>
          <p:spPr>
            <a:xfrm>
              <a:off x="7721640" y="47563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6"/>
            <p:cNvSpPr/>
            <p:nvPr/>
          </p:nvSpPr>
          <p:spPr>
            <a:xfrm>
              <a:off x="7689960" y="51753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47"/>
            <p:cNvSpPr/>
            <p:nvPr/>
          </p:nvSpPr>
          <p:spPr>
            <a:xfrm>
              <a:off x="5334120" y="5607000"/>
              <a:ext cx="3504960" cy="0"/>
            </a:xfrm>
            <a:prstGeom prst="line">
              <a:avLst/>
            </a:prstGeom>
            <a:ln w="255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52"/>
          <p:cNvGrpSpPr/>
          <p:nvPr/>
        </p:nvGrpSpPr>
        <p:grpSpPr>
          <a:xfrm>
            <a:off x="383400" y="2622600"/>
            <a:ext cx="3592800" cy="459720"/>
            <a:chOff x="383400" y="2622600"/>
            <a:chExt cx="3592800" cy="459720"/>
          </a:xfrm>
        </p:grpSpPr>
        <p:sp>
          <p:nvSpPr>
            <p:cNvPr id="400" name="Text Box 50"/>
            <p:cNvSpPr/>
            <p:nvPr/>
          </p:nvSpPr>
          <p:spPr>
            <a:xfrm>
              <a:off x="383400" y="2622600"/>
              <a:ext cx="74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51"/>
            <p:cNvSpPr/>
            <p:nvPr/>
          </p:nvSpPr>
          <p:spPr>
            <a:xfrm>
              <a:off x="3310920" y="2622600"/>
              <a:ext cx="66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55"/>
          <p:cNvGrpSpPr/>
          <p:nvPr/>
        </p:nvGrpSpPr>
        <p:grpSpPr>
          <a:xfrm>
            <a:off x="346680" y="3098880"/>
            <a:ext cx="4675680" cy="459720"/>
            <a:chOff x="346680" y="3098880"/>
            <a:chExt cx="4675680" cy="459720"/>
          </a:xfrm>
        </p:grpSpPr>
        <p:sp>
          <p:nvSpPr>
            <p:cNvPr id="403" name="Text Box 53"/>
            <p:cNvSpPr/>
            <p:nvPr/>
          </p:nvSpPr>
          <p:spPr>
            <a:xfrm>
              <a:off x="346680" y="3098880"/>
              <a:ext cx="200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O + 2 O =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54"/>
            <p:cNvSpPr/>
            <p:nvPr/>
          </p:nvSpPr>
          <p:spPr>
            <a:xfrm>
              <a:off x="3421440" y="3098880"/>
              <a:ext cx="160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O (2 x 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7110A-833D-4BEE-967D-060644CD3E24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2"/>
          <p:cNvSpPr/>
          <p:nvPr/>
        </p:nvSpPr>
        <p:spPr>
          <a:xfrm>
            <a:off x="407880" y="328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3"/>
          <p:cNvSpPr/>
          <p:nvPr/>
        </p:nvSpPr>
        <p:spPr>
          <a:xfrm>
            <a:off x="324000" y="2421000"/>
            <a:ext cx="855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mula/s for the reactant/s on the left side and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mula/s for the product/s on the right side of the equ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10"/>
          <p:cNvGrpSpPr/>
          <p:nvPr/>
        </p:nvGrpSpPr>
        <p:grpSpPr>
          <a:xfrm>
            <a:off x="2257920" y="4348080"/>
            <a:ext cx="4365000" cy="581400"/>
            <a:chOff x="2257920" y="4348080"/>
            <a:chExt cx="4365000" cy="581400"/>
          </a:xfrm>
        </p:grpSpPr>
        <p:sp>
          <p:nvSpPr>
            <p:cNvPr id="408" name="Text Box 5"/>
            <p:cNvSpPr/>
            <p:nvPr/>
          </p:nvSpPr>
          <p:spPr>
            <a:xfrm>
              <a:off x="2257920" y="4348080"/>
              <a:ext cx="1686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0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8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800" spc="-1" strike="noStrike">
                  <a:solidFill>
                    <a:srgbClr val="00007d"/>
                  </a:solidFill>
                  <a:latin typeface="Comic Sans MS"/>
                </a:rPr>
                <a:t> + O</a:t>
              </a:r>
              <a:r>
                <a:rPr b="0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6"/>
            <p:cNvSpPr/>
            <p:nvPr/>
          </p:nvSpPr>
          <p:spPr>
            <a:xfrm>
              <a:off x="3867120" y="4576680"/>
              <a:ext cx="761760" cy="0"/>
            </a:xfrm>
            <a:prstGeom prst="line">
              <a:avLst/>
            </a:prstGeom>
            <a:ln w="38160">
              <a:solidFill>
                <a:srgbClr val="0000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 Box 7"/>
            <p:cNvSpPr/>
            <p:nvPr/>
          </p:nvSpPr>
          <p:spPr>
            <a:xfrm>
              <a:off x="4776480" y="4349880"/>
              <a:ext cx="1846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7d"/>
                  </a:solidFill>
                  <a:latin typeface="Comic Sans MS"/>
                </a:rPr>
                <a:t>CO</a:t>
              </a:r>
              <a:r>
                <a:rPr b="0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800" spc="-1" strike="noStrike">
                  <a:solidFill>
                    <a:srgbClr val="00007d"/>
                  </a:solidFill>
                  <a:latin typeface="Comic Sans MS"/>
                </a:rPr>
                <a:t> + H</a:t>
              </a:r>
              <a:r>
                <a:rPr b="0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8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Text Box 4"/>
          <p:cNvSpPr/>
          <p:nvPr/>
        </p:nvSpPr>
        <p:spPr>
          <a:xfrm>
            <a:off x="324000" y="93816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thane reacts with oxygen to form carbon dioxide and water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balance this rea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DA520-37D3-4552-90FD-89C05C911D74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Average Atomic Mas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0714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ic mass of carbon = 12.01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12.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arbon exist in more than one form (isotopes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&amp;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rbon is a mixture of Isoto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us: Atomic Mass = Average Atomic Ma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03280" y="1128600"/>
            <a:ext cx="1944720" cy="30492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2.0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924360" y="1052640"/>
            <a:ext cx="2955960" cy="3168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659640" y="1773360"/>
            <a:ext cx="2484360" cy="12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Natural Abund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طبيعية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وف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EBC53-48E0-451F-AA4B-FE78026F352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3"/>
          <p:cNvSpPr/>
          <p:nvPr/>
        </p:nvSpPr>
        <p:spPr>
          <a:xfrm>
            <a:off x="281160" y="519120"/>
            <a:ext cx="855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Start by balancing those elements that appear in only one reactant and one produc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Group 5"/>
          <p:cNvGrpSpPr/>
          <p:nvPr/>
        </p:nvGrpSpPr>
        <p:grpSpPr>
          <a:xfrm>
            <a:off x="486000" y="1596960"/>
            <a:ext cx="4128120" cy="511920"/>
            <a:chOff x="486000" y="1596960"/>
            <a:chExt cx="4128120" cy="511920"/>
          </a:xfrm>
        </p:grpSpPr>
        <p:sp>
          <p:nvSpPr>
            <p:cNvPr id="414" name="Text Box 6"/>
            <p:cNvSpPr/>
            <p:nvPr/>
          </p:nvSpPr>
          <p:spPr>
            <a:xfrm>
              <a:off x="486000" y="1596960"/>
              <a:ext cx="146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7"/>
            <p:cNvSpPr/>
            <p:nvPr/>
          </p:nvSpPr>
          <p:spPr>
            <a:xfrm>
              <a:off x="2106720" y="1825560"/>
              <a:ext cx="76176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8"/>
            <p:cNvSpPr/>
            <p:nvPr/>
          </p:nvSpPr>
          <p:spPr>
            <a:xfrm>
              <a:off x="3007440" y="1598760"/>
              <a:ext cx="160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Text Box 15"/>
          <p:cNvSpPr/>
          <p:nvPr/>
        </p:nvSpPr>
        <p:spPr>
          <a:xfrm>
            <a:off x="4822920" y="1596960"/>
            <a:ext cx="395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start with C or H but not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Group 24"/>
          <p:cNvGrpSpPr/>
          <p:nvPr/>
        </p:nvGrpSpPr>
        <p:grpSpPr>
          <a:xfrm>
            <a:off x="99360" y="2054160"/>
            <a:ext cx="1438200" cy="1359000"/>
            <a:chOff x="99360" y="2054160"/>
            <a:chExt cx="1438200" cy="1359000"/>
          </a:xfrm>
        </p:grpSpPr>
        <p:sp>
          <p:nvSpPr>
            <p:cNvPr id="419" name="Line 17"/>
            <p:cNvSpPr/>
            <p:nvPr/>
          </p:nvSpPr>
          <p:spPr>
            <a:xfrm flipV="1">
              <a:off x="817560" y="205416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18"/>
            <p:cNvSpPr/>
            <p:nvPr/>
          </p:nvSpPr>
          <p:spPr>
            <a:xfrm>
              <a:off x="99360" y="2587680"/>
              <a:ext cx="1438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carb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Group 25"/>
          <p:cNvGrpSpPr/>
          <p:nvPr/>
        </p:nvGrpSpPr>
        <p:grpSpPr>
          <a:xfrm>
            <a:off x="2473560" y="1977840"/>
            <a:ext cx="1438200" cy="1359000"/>
            <a:chOff x="2473560" y="1977840"/>
            <a:chExt cx="1438200" cy="1359000"/>
          </a:xfrm>
        </p:grpSpPr>
        <p:sp>
          <p:nvSpPr>
            <p:cNvPr id="422" name="Line 21"/>
            <p:cNvSpPr/>
            <p:nvPr/>
          </p:nvSpPr>
          <p:spPr>
            <a:xfrm flipV="1">
              <a:off x="3192480" y="1977840"/>
              <a:ext cx="0" cy="45684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22"/>
            <p:cNvSpPr/>
            <p:nvPr/>
          </p:nvSpPr>
          <p:spPr>
            <a:xfrm>
              <a:off x="2473560" y="2511360"/>
              <a:ext cx="1438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 carb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r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Text Box 23"/>
          <p:cNvSpPr/>
          <p:nvPr/>
        </p:nvSpPr>
        <p:spPr>
          <a:xfrm>
            <a:off x="5696280" y="2664000"/>
            <a:ext cx="262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multiply CO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b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26"/>
          <p:cNvGrpSpPr/>
          <p:nvPr/>
        </p:nvGrpSpPr>
        <p:grpSpPr>
          <a:xfrm>
            <a:off x="486000" y="3440160"/>
            <a:ext cx="4307760" cy="511560"/>
            <a:chOff x="486000" y="3440160"/>
            <a:chExt cx="4307760" cy="511560"/>
          </a:xfrm>
        </p:grpSpPr>
        <p:sp>
          <p:nvSpPr>
            <p:cNvPr id="426" name="Text Box 27"/>
            <p:cNvSpPr/>
            <p:nvPr/>
          </p:nvSpPr>
          <p:spPr>
            <a:xfrm>
              <a:off x="486000" y="3440160"/>
              <a:ext cx="146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28"/>
            <p:cNvSpPr/>
            <p:nvPr/>
          </p:nvSpPr>
          <p:spPr>
            <a:xfrm>
              <a:off x="2106720" y="3668400"/>
              <a:ext cx="76176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29"/>
            <p:cNvSpPr/>
            <p:nvPr/>
          </p:nvSpPr>
          <p:spPr>
            <a:xfrm>
              <a:off x="3013560" y="3441600"/>
              <a:ext cx="178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Group 30"/>
          <p:cNvGrpSpPr/>
          <p:nvPr/>
        </p:nvGrpSpPr>
        <p:grpSpPr>
          <a:xfrm>
            <a:off x="227880" y="3898800"/>
            <a:ext cx="1825200" cy="1359000"/>
            <a:chOff x="227880" y="3898800"/>
            <a:chExt cx="1825200" cy="1359000"/>
          </a:xfrm>
        </p:grpSpPr>
        <p:sp>
          <p:nvSpPr>
            <p:cNvPr id="430" name="Line 31"/>
            <p:cNvSpPr/>
            <p:nvPr/>
          </p:nvSpPr>
          <p:spPr>
            <a:xfrm flipV="1">
              <a:off x="1137960" y="389880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 Box 32"/>
            <p:cNvSpPr/>
            <p:nvPr/>
          </p:nvSpPr>
          <p:spPr>
            <a:xfrm>
              <a:off x="227880" y="4432320"/>
              <a:ext cx="1825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6 hydr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Group 33"/>
          <p:cNvGrpSpPr/>
          <p:nvPr/>
        </p:nvGrpSpPr>
        <p:grpSpPr>
          <a:xfrm>
            <a:off x="3507480" y="3898800"/>
            <a:ext cx="1825200" cy="1359000"/>
            <a:chOff x="3507480" y="3898800"/>
            <a:chExt cx="1825200" cy="1359000"/>
          </a:xfrm>
        </p:grpSpPr>
        <p:sp>
          <p:nvSpPr>
            <p:cNvPr id="433" name="Line 34"/>
            <p:cNvSpPr/>
            <p:nvPr/>
          </p:nvSpPr>
          <p:spPr>
            <a:xfrm flipV="1">
              <a:off x="4417560" y="389880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35"/>
            <p:cNvSpPr/>
            <p:nvPr/>
          </p:nvSpPr>
          <p:spPr>
            <a:xfrm>
              <a:off x="3507480" y="4432320"/>
              <a:ext cx="1825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hydr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r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Text Box 36"/>
          <p:cNvSpPr/>
          <p:nvPr/>
        </p:nvSpPr>
        <p:spPr>
          <a:xfrm>
            <a:off x="5704200" y="4610160"/>
            <a:ext cx="266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multiply 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 by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Group 37"/>
          <p:cNvGrpSpPr/>
          <p:nvPr/>
        </p:nvGrpSpPr>
        <p:grpSpPr>
          <a:xfrm>
            <a:off x="486000" y="5405400"/>
            <a:ext cx="4487400" cy="511920"/>
            <a:chOff x="486000" y="5405400"/>
            <a:chExt cx="4487400" cy="511920"/>
          </a:xfrm>
        </p:grpSpPr>
        <p:sp>
          <p:nvSpPr>
            <p:cNvPr id="437" name="Text Box 38"/>
            <p:cNvSpPr/>
            <p:nvPr/>
          </p:nvSpPr>
          <p:spPr>
            <a:xfrm>
              <a:off x="486000" y="5405400"/>
              <a:ext cx="146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39"/>
            <p:cNvSpPr/>
            <p:nvPr/>
          </p:nvSpPr>
          <p:spPr>
            <a:xfrm>
              <a:off x="2106720" y="5634000"/>
              <a:ext cx="76176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Text Box 40"/>
            <p:cNvSpPr/>
            <p:nvPr/>
          </p:nvSpPr>
          <p:spPr>
            <a:xfrm>
              <a:off x="3019320" y="5407200"/>
              <a:ext cx="195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3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A784A-6C17-429F-A4A0-9545E3A929C5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 Box 3"/>
          <p:cNvSpPr/>
          <p:nvPr/>
        </p:nvSpPr>
        <p:spPr>
          <a:xfrm>
            <a:off x="212760" y="549360"/>
            <a:ext cx="855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lance those elements that appear in two or more reactants or produc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Group 10"/>
          <p:cNvGrpSpPr/>
          <p:nvPr/>
        </p:nvGrpSpPr>
        <p:grpSpPr>
          <a:xfrm>
            <a:off x="883800" y="2309760"/>
            <a:ext cx="1483920" cy="1359000"/>
            <a:chOff x="883800" y="2309760"/>
            <a:chExt cx="1483920" cy="1359000"/>
          </a:xfrm>
        </p:grpSpPr>
        <p:sp>
          <p:nvSpPr>
            <p:cNvPr id="442" name="Line 11"/>
            <p:cNvSpPr/>
            <p:nvPr/>
          </p:nvSpPr>
          <p:spPr>
            <a:xfrm flipV="1">
              <a:off x="1623600" y="230976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Text Box 12"/>
            <p:cNvSpPr/>
            <p:nvPr/>
          </p:nvSpPr>
          <p:spPr>
            <a:xfrm>
              <a:off x="883800" y="2843280"/>
              <a:ext cx="1483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Group 13"/>
          <p:cNvGrpSpPr/>
          <p:nvPr/>
        </p:nvGrpSpPr>
        <p:grpSpPr>
          <a:xfrm>
            <a:off x="2585520" y="2309760"/>
            <a:ext cx="1483920" cy="1359000"/>
            <a:chOff x="2585520" y="2309760"/>
            <a:chExt cx="1483920" cy="1359000"/>
          </a:xfrm>
        </p:grpSpPr>
        <p:sp>
          <p:nvSpPr>
            <p:cNvPr id="445" name="Line 14"/>
            <p:cNvSpPr/>
            <p:nvPr/>
          </p:nvSpPr>
          <p:spPr>
            <a:xfrm flipV="1">
              <a:off x="3325680" y="230976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15"/>
            <p:cNvSpPr/>
            <p:nvPr/>
          </p:nvSpPr>
          <p:spPr>
            <a:xfrm>
              <a:off x="2585520" y="2843280"/>
              <a:ext cx="1483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(2x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Group 28"/>
          <p:cNvGrpSpPr/>
          <p:nvPr/>
        </p:nvGrpSpPr>
        <p:grpSpPr>
          <a:xfrm>
            <a:off x="417600" y="1852560"/>
            <a:ext cx="4487400" cy="511920"/>
            <a:chOff x="417600" y="1852560"/>
            <a:chExt cx="4487400" cy="511920"/>
          </a:xfrm>
        </p:grpSpPr>
        <p:sp>
          <p:nvSpPr>
            <p:cNvPr id="448" name="Text Box 29"/>
            <p:cNvSpPr/>
            <p:nvPr/>
          </p:nvSpPr>
          <p:spPr>
            <a:xfrm>
              <a:off x="417600" y="1852560"/>
              <a:ext cx="146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Line 30"/>
            <p:cNvSpPr/>
            <p:nvPr/>
          </p:nvSpPr>
          <p:spPr>
            <a:xfrm>
              <a:off x="2038320" y="2081160"/>
              <a:ext cx="76176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31"/>
            <p:cNvSpPr/>
            <p:nvPr/>
          </p:nvSpPr>
          <p:spPr>
            <a:xfrm>
              <a:off x="2950920" y="1854360"/>
              <a:ext cx="195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3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Group 44"/>
          <p:cNvGrpSpPr/>
          <p:nvPr/>
        </p:nvGrpSpPr>
        <p:grpSpPr>
          <a:xfrm>
            <a:off x="3882240" y="2309760"/>
            <a:ext cx="1736640" cy="1349280"/>
            <a:chOff x="3882240" y="2309760"/>
            <a:chExt cx="1736640" cy="1349280"/>
          </a:xfrm>
        </p:grpSpPr>
        <p:sp>
          <p:nvSpPr>
            <p:cNvPr id="452" name="Line 33"/>
            <p:cNvSpPr/>
            <p:nvPr/>
          </p:nvSpPr>
          <p:spPr>
            <a:xfrm flipV="1">
              <a:off x="4749840" y="230976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 Box 34"/>
            <p:cNvSpPr/>
            <p:nvPr/>
          </p:nvSpPr>
          <p:spPr>
            <a:xfrm>
              <a:off x="3882240" y="2833560"/>
              <a:ext cx="1736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+ 3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(3x1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Group 54"/>
          <p:cNvGrpSpPr/>
          <p:nvPr/>
        </p:nvGrpSpPr>
        <p:grpSpPr>
          <a:xfrm>
            <a:off x="5578200" y="1700280"/>
            <a:ext cx="2427120" cy="764280"/>
            <a:chOff x="5578200" y="1700280"/>
            <a:chExt cx="2427120" cy="764280"/>
          </a:xfrm>
        </p:grpSpPr>
        <p:sp>
          <p:nvSpPr>
            <p:cNvPr id="455" name="Text Box 16"/>
            <p:cNvSpPr/>
            <p:nvPr/>
          </p:nvSpPr>
          <p:spPr>
            <a:xfrm>
              <a:off x="5578200" y="1852560"/>
              <a:ext cx="2422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multiply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by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6" name="Group 42"/>
            <p:cNvGrpSpPr/>
            <p:nvPr/>
          </p:nvGrpSpPr>
          <p:grpSpPr>
            <a:xfrm>
              <a:off x="7624800" y="1700280"/>
              <a:ext cx="380520" cy="764280"/>
              <a:chOff x="7624800" y="1700280"/>
              <a:chExt cx="380520" cy="764280"/>
            </a:xfrm>
          </p:grpSpPr>
          <p:sp>
            <p:nvSpPr>
              <p:cNvPr id="457" name="Text Box 37"/>
              <p:cNvSpPr/>
              <p:nvPr/>
            </p:nvSpPr>
            <p:spPr>
              <a:xfrm>
                <a:off x="7644600" y="17002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7d"/>
                    </a:solidFill>
                    <a:latin typeface="Comic Sans MS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Line 38"/>
              <p:cNvSpPr/>
              <p:nvPr/>
            </p:nvSpPr>
            <p:spPr>
              <a:xfrm>
                <a:off x="7624800" y="2081160"/>
                <a:ext cx="3805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Text Box 41"/>
              <p:cNvSpPr/>
              <p:nvPr/>
            </p:nvSpPr>
            <p:spPr>
              <a:xfrm>
                <a:off x="7644600" y="20048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7d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0" name="Text Box 45"/>
          <p:cNvSpPr/>
          <p:nvPr/>
        </p:nvSpPr>
        <p:spPr>
          <a:xfrm>
            <a:off x="5447520" y="2833560"/>
            <a:ext cx="173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= 7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n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Group 55"/>
          <p:cNvGrpSpPr/>
          <p:nvPr/>
        </p:nvGrpSpPr>
        <p:grpSpPr>
          <a:xfrm>
            <a:off x="445680" y="3846600"/>
            <a:ext cx="4783320" cy="764280"/>
            <a:chOff x="445680" y="3846600"/>
            <a:chExt cx="4783320" cy="764280"/>
          </a:xfrm>
        </p:grpSpPr>
        <p:sp>
          <p:nvSpPr>
            <p:cNvPr id="462" name="Text Box 47"/>
            <p:cNvSpPr/>
            <p:nvPr/>
          </p:nvSpPr>
          <p:spPr>
            <a:xfrm>
              <a:off x="445680" y="3984480"/>
              <a:ext cx="1865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    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48"/>
            <p:cNvSpPr/>
            <p:nvPr/>
          </p:nvSpPr>
          <p:spPr>
            <a:xfrm>
              <a:off x="2362320" y="4213080"/>
              <a:ext cx="76176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Text Box 49"/>
            <p:cNvSpPr/>
            <p:nvPr/>
          </p:nvSpPr>
          <p:spPr>
            <a:xfrm>
              <a:off x="3274920" y="3986280"/>
              <a:ext cx="195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3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5" name="Group 50"/>
            <p:cNvGrpSpPr/>
            <p:nvPr/>
          </p:nvGrpSpPr>
          <p:grpSpPr>
            <a:xfrm>
              <a:off x="1523880" y="3846600"/>
              <a:ext cx="380880" cy="764280"/>
              <a:chOff x="1523880" y="3846600"/>
              <a:chExt cx="380880" cy="764280"/>
            </a:xfrm>
          </p:grpSpPr>
          <p:sp>
            <p:nvSpPr>
              <p:cNvPr id="466" name="Text Box 51"/>
              <p:cNvSpPr/>
              <p:nvPr/>
            </p:nvSpPr>
            <p:spPr>
              <a:xfrm>
                <a:off x="1544040" y="38466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7d"/>
                    </a:solidFill>
                    <a:latin typeface="Comic Sans MS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Line 52"/>
              <p:cNvSpPr/>
              <p:nvPr/>
            </p:nvSpPr>
            <p:spPr>
              <a:xfrm>
                <a:off x="1523880" y="4227480"/>
                <a:ext cx="38088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Text Box 53"/>
              <p:cNvSpPr/>
              <p:nvPr/>
            </p:nvSpPr>
            <p:spPr>
              <a:xfrm>
                <a:off x="1544040" y="4151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7d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9" name="Text Box 56"/>
          <p:cNvSpPr/>
          <p:nvPr/>
        </p:nvSpPr>
        <p:spPr>
          <a:xfrm>
            <a:off x="5557320" y="3833640"/>
            <a:ext cx="358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remove f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multiply both sides b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61"/>
          <p:cNvGrpSpPr/>
          <p:nvPr/>
        </p:nvGrpSpPr>
        <p:grpSpPr>
          <a:xfrm>
            <a:off x="429480" y="4746600"/>
            <a:ext cx="4812120" cy="511560"/>
            <a:chOff x="429480" y="4746600"/>
            <a:chExt cx="4812120" cy="511560"/>
          </a:xfrm>
        </p:grpSpPr>
        <p:sp>
          <p:nvSpPr>
            <p:cNvPr id="471" name="Text Box 58"/>
            <p:cNvSpPr/>
            <p:nvPr/>
          </p:nvSpPr>
          <p:spPr>
            <a:xfrm>
              <a:off x="429480" y="4746600"/>
              <a:ext cx="181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7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59"/>
            <p:cNvSpPr/>
            <p:nvPr/>
          </p:nvSpPr>
          <p:spPr>
            <a:xfrm>
              <a:off x="2374920" y="4975200"/>
              <a:ext cx="76212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60"/>
            <p:cNvSpPr/>
            <p:nvPr/>
          </p:nvSpPr>
          <p:spPr>
            <a:xfrm>
              <a:off x="3287520" y="4748040"/>
              <a:ext cx="195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6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5FF3E-6FAB-4002-9681-AB8DD3682D8A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3"/>
          <p:cNvSpPr/>
          <p:nvPr/>
        </p:nvSpPr>
        <p:spPr>
          <a:xfrm>
            <a:off x="212760" y="592200"/>
            <a:ext cx="855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eck to make sure that you have the same number of each type of atom on both sides of the equ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4"/>
          <p:cNvGrpSpPr/>
          <p:nvPr/>
        </p:nvGrpSpPr>
        <p:grpSpPr>
          <a:xfrm>
            <a:off x="429480" y="2125800"/>
            <a:ext cx="4812120" cy="511560"/>
            <a:chOff x="429480" y="2125800"/>
            <a:chExt cx="4812120" cy="511560"/>
          </a:xfrm>
        </p:grpSpPr>
        <p:sp>
          <p:nvSpPr>
            <p:cNvPr id="476" name="Text Box 35"/>
            <p:cNvSpPr/>
            <p:nvPr/>
          </p:nvSpPr>
          <p:spPr>
            <a:xfrm>
              <a:off x="429480" y="2125800"/>
              <a:ext cx="181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7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36"/>
            <p:cNvSpPr/>
            <p:nvPr/>
          </p:nvSpPr>
          <p:spPr>
            <a:xfrm>
              <a:off x="2374920" y="2354400"/>
              <a:ext cx="76212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37"/>
            <p:cNvSpPr/>
            <p:nvPr/>
          </p:nvSpPr>
          <p:spPr>
            <a:xfrm>
              <a:off x="3287520" y="2127240"/>
              <a:ext cx="195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6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Group 48"/>
          <p:cNvGrpSpPr/>
          <p:nvPr/>
        </p:nvGrpSpPr>
        <p:grpSpPr>
          <a:xfrm>
            <a:off x="5252040" y="3843360"/>
            <a:ext cx="3644640" cy="1791720"/>
            <a:chOff x="5252040" y="3843360"/>
            <a:chExt cx="3644640" cy="1791720"/>
          </a:xfrm>
        </p:grpSpPr>
        <p:sp>
          <p:nvSpPr>
            <p:cNvPr id="480" name="Text Box 38"/>
            <p:cNvSpPr/>
            <p:nvPr/>
          </p:nvSpPr>
          <p:spPr>
            <a:xfrm>
              <a:off x="5252040" y="384336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Reacta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39"/>
            <p:cNvSpPr/>
            <p:nvPr/>
          </p:nvSpPr>
          <p:spPr>
            <a:xfrm>
              <a:off x="7441920" y="3843360"/>
              <a:ext cx="145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Produc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Line 40"/>
            <p:cNvSpPr/>
            <p:nvPr/>
          </p:nvSpPr>
          <p:spPr>
            <a:xfrm>
              <a:off x="5334120" y="4260960"/>
              <a:ext cx="3504960" cy="0"/>
            </a:xfrm>
            <a:prstGeom prst="line">
              <a:avLst/>
            </a:prstGeom>
            <a:ln w="255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41"/>
            <p:cNvSpPr/>
            <p:nvPr/>
          </p:nvSpPr>
          <p:spPr>
            <a:xfrm>
              <a:off x="5681520" y="433692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Text Box 42"/>
            <p:cNvSpPr/>
            <p:nvPr/>
          </p:nvSpPr>
          <p:spPr>
            <a:xfrm>
              <a:off x="5500080" y="4756320"/>
              <a:ext cx="83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2 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Text Box 43"/>
            <p:cNvSpPr/>
            <p:nvPr/>
          </p:nvSpPr>
          <p:spPr>
            <a:xfrm>
              <a:off x="5483880" y="5175360"/>
              <a:ext cx="84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4 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Text Box 44"/>
            <p:cNvSpPr/>
            <p:nvPr/>
          </p:nvSpPr>
          <p:spPr>
            <a:xfrm>
              <a:off x="7885080" y="433692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Text Box 45"/>
            <p:cNvSpPr/>
            <p:nvPr/>
          </p:nvSpPr>
          <p:spPr>
            <a:xfrm>
              <a:off x="7703640" y="4756320"/>
              <a:ext cx="83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2 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Text Box 46"/>
            <p:cNvSpPr/>
            <p:nvPr/>
          </p:nvSpPr>
          <p:spPr>
            <a:xfrm>
              <a:off x="7687080" y="5175360"/>
              <a:ext cx="84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4 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Line 47"/>
            <p:cNvSpPr/>
            <p:nvPr/>
          </p:nvSpPr>
          <p:spPr>
            <a:xfrm>
              <a:off x="5334120" y="5607000"/>
              <a:ext cx="3504960" cy="0"/>
            </a:xfrm>
            <a:prstGeom prst="line">
              <a:avLst/>
            </a:prstGeom>
            <a:ln w="255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Group 52"/>
          <p:cNvGrpSpPr/>
          <p:nvPr/>
        </p:nvGrpSpPr>
        <p:grpSpPr>
          <a:xfrm>
            <a:off x="552600" y="2622600"/>
            <a:ext cx="3975120" cy="459720"/>
            <a:chOff x="552600" y="2622600"/>
            <a:chExt cx="3975120" cy="459720"/>
          </a:xfrm>
        </p:grpSpPr>
        <p:sp>
          <p:nvSpPr>
            <p:cNvPr id="491" name="Text Box 50"/>
            <p:cNvSpPr/>
            <p:nvPr/>
          </p:nvSpPr>
          <p:spPr>
            <a:xfrm>
              <a:off x="552600" y="2622600"/>
              <a:ext cx="155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C (2 x 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Text Box 51"/>
            <p:cNvSpPr/>
            <p:nvPr/>
          </p:nvSpPr>
          <p:spPr>
            <a:xfrm>
              <a:off x="3902040" y="262260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Group 55"/>
          <p:cNvGrpSpPr/>
          <p:nvPr/>
        </p:nvGrpSpPr>
        <p:grpSpPr>
          <a:xfrm>
            <a:off x="464040" y="3098880"/>
            <a:ext cx="4638960" cy="459720"/>
            <a:chOff x="464040" y="3098880"/>
            <a:chExt cx="4638960" cy="459720"/>
          </a:xfrm>
        </p:grpSpPr>
        <p:sp>
          <p:nvSpPr>
            <p:cNvPr id="494" name="Text Box 53"/>
            <p:cNvSpPr/>
            <p:nvPr/>
          </p:nvSpPr>
          <p:spPr>
            <a:xfrm>
              <a:off x="464040" y="3098880"/>
              <a:ext cx="176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2 H (2 x 6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Text Box 54"/>
            <p:cNvSpPr/>
            <p:nvPr/>
          </p:nvSpPr>
          <p:spPr>
            <a:xfrm>
              <a:off x="3340440" y="3098880"/>
              <a:ext cx="176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2 H (6 x 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Group 58"/>
          <p:cNvGrpSpPr/>
          <p:nvPr/>
        </p:nvGrpSpPr>
        <p:grpSpPr>
          <a:xfrm>
            <a:off x="465840" y="3575160"/>
            <a:ext cx="4876560" cy="459720"/>
            <a:chOff x="465840" y="3575160"/>
            <a:chExt cx="4876560" cy="459720"/>
          </a:xfrm>
        </p:grpSpPr>
        <p:sp>
          <p:nvSpPr>
            <p:cNvPr id="497" name="Text Box 56"/>
            <p:cNvSpPr/>
            <p:nvPr/>
          </p:nvSpPr>
          <p:spPr>
            <a:xfrm>
              <a:off x="465840" y="3575160"/>
              <a:ext cx="177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4 O (7 x 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Text Box 57"/>
            <p:cNvSpPr/>
            <p:nvPr/>
          </p:nvSpPr>
          <p:spPr>
            <a:xfrm>
              <a:off x="3061440" y="3575160"/>
              <a:ext cx="228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4 O (4 x 2 + 6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85098-23F0-4C77-AC70-B2F8E52CE18B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396720" y="328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Example 3.12 p98 : Balance the following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1"/>
          <p:cNvSpPr/>
          <p:nvPr/>
        </p:nvSpPr>
        <p:spPr>
          <a:xfrm>
            <a:off x="8936640" y="656100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4"/>
          <p:cNvSpPr/>
          <p:nvPr/>
        </p:nvSpPr>
        <p:spPr>
          <a:xfrm>
            <a:off x="395280" y="10224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Nitrogen monoxide reacts with oxygen to form nitrogen dioxide and balance this reac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8BE1C-8A1E-492A-BC51-A73B632A3116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323640" y="411120"/>
            <a:ext cx="8512200" cy="24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H.W.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What is the coefficient of 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 when the equation is balanc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_  Al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  + _ 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 </a:t>
            </a:r>
            <a:r>
              <a:rPr b="0" lang="en-US" sz="2400" spc="-1" strike="noStrike">
                <a:solidFill>
                  <a:srgbClr val="00007d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 _  Al(OH)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 +   3C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ooter Placeholder 1"/>
          <p:cNvSpPr/>
          <p:nvPr/>
        </p:nvSpPr>
        <p:spPr>
          <a:xfrm>
            <a:off x="3124080" y="6248520"/>
            <a:ext cx="330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04560" y="3505320"/>
            <a:ext cx="8512200" cy="24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351720" indent="-35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H.W.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What are  the coefficients of Al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,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 and Al(OH)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,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respectively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,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when the equation is balanc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720" indent="-351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_  Al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  + _ 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 </a:t>
            </a:r>
            <a:r>
              <a:rPr b="0" lang="en-US" sz="2400" spc="-1" strike="noStrike">
                <a:solidFill>
                  <a:srgbClr val="00007d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 _  Al(OH)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 +   3C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720" indent="-35172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,1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720" indent="-35172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1,12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720" indent="-35172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,24,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720" indent="-35172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,12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720" indent="-35172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22200" y="3500280"/>
            <a:ext cx="813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97918-658A-4662-942B-B6752C84FA1A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-181080" y="620640"/>
            <a:ext cx="954108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= number of m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 = mass (atom or molecu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 = molar mass (atomic mass or molecular ma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is the relation between th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1258920" y="4076640"/>
                <a:ext cx="6624720" cy="19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2DAF2-0DA2-4156-B06D-B968E5FEDF98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328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3.8 Amounts of Reactants and Produ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774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wo important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uch product will be formed from specific amount of reacta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.g. 6.0 g reactant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?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How much starting reactants must be used to obtain a specific amount of produ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e.g. ? reacta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6.0 g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D5A24-93CC-4777-B837-D2EE7EAD2CE8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Text Box 4"/>
          <p:cNvSpPr/>
          <p:nvPr/>
        </p:nvSpPr>
        <p:spPr>
          <a:xfrm>
            <a:off x="611280" y="4221000"/>
            <a:ext cx="80769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rite balanced chemical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vert quantities of known substances into m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coefficients in balanced equation to calculate the number of moles of the sought 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vert moles of sought quantity into desired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7" descr="03_08"/>
          <p:cNvPicPr/>
          <p:nvPr/>
        </p:nvPicPr>
        <p:blipFill>
          <a:blip r:embed="rId1"/>
          <a:srcRect l="0" t="3039" r="0" b="0"/>
          <a:stretch/>
        </p:blipFill>
        <p:spPr>
          <a:xfrm>
            <a:off x="2195640" y="620640"/>
            <a:ext cx="6553080" cy="327348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/>
          <p:nvPr/>
        </p:nvSpPr>
        <p:spPr>
          <a:xfrm>
            <a:off x="179280" y="476280"/>
            <a:ext cx="208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Comic Sans MS"/>
              </a:rPr>
              <a:t>Mole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179280" y="1557360"/>
                <a:ext cx="1731960" cy="14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283CA-0655-410F-9FAC-280E7FCDCB2A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3.13 p10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If </a:t>
            </a:r>
            <a:r>
              <a:rPr b="1" lang="en-US" sz="3200" spc="-1" strike="noStrike">
                <a:solidFill>
                  <a:srgbClr val="00007d"/>
                </a:solidFill>
                <a:latin typeface="Comic Sans MS"/>
              </a:rPr>
              <a:t>856g of C</a:t>
            </a:r>
            <a:r>
              <a:rPr b="1" lang="en-US" sz="3200" spc="-1" strike="noStrike" baseline="-25000">
                <a:solidFill>
                  <a:srgbClr val="00007d"/>
                </a:solidFill>
                <a:latin typeface="Comic Sans MS"/>
              </a:rPr>
              <a:t>6</a:t>
            </a:r>
            <a:r>
              <a:rPr b="1" lang="en-US" sz="3200" spc="-1" strike="noStrike">
                <a:solidFill>
                  <a:srgbClr val="00007d"/>
                </a:solidFill>
                <a:latin typeface="Comic Sans MS"/>
              </a:rPr>
              <a:t>H</a:t>
            </a:r>
            <a:r>
              <a:rPr b="1" lang="en-US" sz="3200" spc="-1" strike="noStrike" baseline="-25000">
                <a:solidFill>
                  <a:srgbClr val="00007d"/>
                </a:solidFill>
                <a:latin typeface="Comic Sans MS"/>
              </a:rPr>
              <a:t>12</a:t>
            </a:r>
            <a:r>
              <a:rPr b="1" lang="en-US" sz="3200" spc="-1" strike="noStrike">
                <a:solidFill>
                  <a:srgbClr val="00007d"/>
                </a:solidFill>
                <a:latin typeface="Comic Sans MS"/>
              </a:rPr>
              <a:t>O</a:t>
            </a:r>
            <a:r>
              <a:rPr b="1" lang="en-US" sz="3200" spc="-1" strike="noStrike" baseline="-25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is consumed by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person over a certain period, what is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Comic Sans MS"/>
              </a:rPr>
              <a:t>mass of CO</a:t>
            </a:r>
            <a:r>
              <a:rPr b="1" lang="en-US" sz="32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produc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468360" y="1303200"/>
                <a:ext cx="79214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6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9" name="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79EC6-DB20-494C-BE93-9F07FE0DEB6C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843588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balanced chemic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vert quantities of known substances into mol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vert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grams of </a:t>
            </a:r>
            <a:r>
              <a:rPr b="0" lang="en-GB" sz="2800" spc="-1" strike="noStrike">
                <a:solidFill>
                  <a:srgbClr val="666633"/>
                </a:solidFill>
                <a:latin typeface="Comic Sans MS"/>
              </a:rPr>
              <a:t>C</a:t>
            </a:r>
            <a:r>
              <a:rPr b="0" lang="en-GB" sz="2800" spc="-1" strike="noStrike" baseline="-25000">
                <a:solidFill>
                  <a:srgbClr val="666633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666633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666633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666633"/>
                </a:solidFill>
                <a:latin typeface="Comic Sans MS"/>
              </a:rPr>
              <a:t>O</a:t>
            </a:r>
            <a:r>
              <a:rPr b="0" lang="en-GB" sz="2800" spc="-1" strike="noStrike" baseline="-25000">
                <a:solidFill>
                  <a:srgbClr val="666633"/>
                </a:solidFill>
                <a:latin typeface="Comic Sans MS"/>
              </a:rPr>
              <a:t>6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moles of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1258920" y="1628640"/>
                <a:ext cx="648000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6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2" name=""/>
          <p:cNvSpPr/>
          <p:nvPr/>
        </p:nvSpPr>
        <p:spPr>
          <a:xfrm>
            <a:off x="3564000" y="249228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Balanc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1258920" y="4653000"/>
                <a:ext cx="5834160" cy="20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6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6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6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6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856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0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EC351-80CF-4782-AAF6-718F82236523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How we get the Average Atomic Ma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verage atomic mass of natural carbon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00"/>
                </a:solidFill>
                <a:latin typeface="Arial"/>
              </a:rPr>
              <a:t>∑ </a:t>
            </a:r>
            <a:r>
              <a:rPr b="1" lang="en-GB" sz="2000" spc="-1" strike="noStrike">
                <a:solidFill>
                  <a:srgbClr val="006600"/>
                </a:solidFill>
                <a:latin typeface="Comic Sans MS"/>
              </a:rPr>
              <a:t>(The natural abundance x Atomic Mass) </a:t>
            </a:r>
            <a:r>
              <a:rPr b="1" lang="en-GB" sz="2000" spc="-1" strike="noStrike" baseline="-25000">
                <a:solidFill>
                  <a:srgbClr val="006600"/>
                </a:solidFill>
                <a:latin typeface="Comic Sans MS"/>
              </a:rPr>
              <a:t>for each isot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 isotopes of Carbon are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&amp;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 natural abundance of each isotope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98.90% &amp; 1.10%, respec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Average Atomic Mass of natural carbon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(0.9890 x 12.00 amu)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12C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+ (0.0110 x 13.00335 amu)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13C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12.01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Notes: 98.90% = 98.90/100 = 0.9890; 1.10% = 1.10/100 = 0.0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Notes: carbon is mainly </a:t>
            </a:r>
            <a:r>
              <a:rPr b="0" lang="en-GB" sz="2400" spc="-1" strike="noStrike" baseline="30000">
                <a:solidFill>
                  <a:srgbClr val="2009a7"/>
                </a:solidFill>
                <a:latin typeface="Comic Sans MS"/>
              </a:rPr>
              <a:t>12</a:t>
            </a: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C </a:t>
            </a:r>
            <a:r>
              <a:rPr b="0" lang="en-GB" sz="2400" spc="-1" strike="noStrike">
                <a:solidFill>
                  <a:srgbClr val="2009a7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the Average Atomic Mass is 12.01 amu </a:t>
            </a:r>
            <a:r>
              <a:rPr b="0" lang="en-GB" sz="2400" spc="-1" strike="noStrike">
                <a:solidFill>
                  <a:srgbClr val="2009a7"/>
                </a:solidFill>
                <a:latin typeface="Arial"/>
              </a:rPr>
              <a:t>→  </a:t>
            </a: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closer to 12 amu than 13 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06434-44FE-4AF6-AD94-6AAFB9B3F78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75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 coefficients in balanced equation to calculate the number of moles of the sought quantity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le ratio (from the balanced equation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1 mole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C</a:t>
            </a:r>
            <a:r>
              <a:rPr b="0" lang="en-GB" sz="3200" spc="-1" strike="noStrike" baseline="-25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GB" sz="3200" spc="-1" strike="noStrike" baseline="-25000">
                <a:solidFill>
                  <a:srgbClr val="9900cc"/>
                </a:solidFill>
                <a:latin typeface="Comic Sans MS"/>
              </a:rPr>
              <a:t>12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3200" spc="-1" strike="noStrike" baseline="-25000">
                <a:solidFill>
                  <a:srgbClr val="9900cc"/>
                </a:solidFill>
                <a:latin typeface="Comic Sans MS"/>
              </a:rPr>
              <a:t>6  </a:t>
            </a: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3200" spc="-1" strike="noStrike" baseline="-25000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6 mole of CO</a:t>
            </a:r>
            <a:r>
              <a:rPr b="0" lang="en-GB" sz="32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4.754 mole  </a:t>
            </a:r>
            <a:r>
              <a:rPr b="0" lang="en-GB" sz="32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? mole CO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539640" y="4292640"/>
                <a:ext cx="799164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4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D2604-8283-4FE4-88D8-4989E43CF316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67564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75000"/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vert moles of sought quantity into desired uni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vert the moles of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ams of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ummary: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grams of C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12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moles of C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12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moles of CO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grams of CO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684360" y="2349360"/>
                <a:ext cx="7921440" cy="18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rPr>
                            <m:lit/>
                            <m:nor/>
                          </m:rPr>
                          <m:t xml:space="preserve"> g/mol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D3FE9-FF21-4F23-94B9-759A280AA808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468000" y="549000"/>
            <a:ext cx="828036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3.1</a:t>
            </a:r>
            <a:r>
              <a:rPr b="1" lang="ar-SA" sz="2800" spc="-1" strike="noStrike" u="sng">
                <a:solidFill>
                  <a:srgbClr val="00007d"/>
                </a:solidFill>
                <a:uFillTx/>
                <a:latin typeface="Comic Sans MS"/>
              </a:rPr>
              <a:t>4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 p10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Comic Sans MS"/>
              </a:rPr>
              <a:t>How many grams of Li are needed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Comic Sans MS"/>
              </a:rPr>
              <a:t>produce 9.89g of H</a:t>
            </a:r>
            <a:r>
              <a:rPr b="0" lang="en-GB" sz="36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3600" spc="-1" strike="noStrike">
                <a:solidFill>
                  <a:srgbClr val="00007d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a50021"/>
                </a:solidFill>
                <a:uFillTx/>
                <a:latin typeface="Comic Sans MS"/>
              </a:rPr>
              <a:t>Strateg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grams of H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oles of H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oles</a:t>
            </a:r>
            <a:r>
              <a:rPr b="0" lang="ar-SA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of</a:t>
            </a:r>
            <a:r>
              <a:rPr b="0" lang="ar-SA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Li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 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grams of 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395280" y="1268280"/>
                <a:ext cx="84978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iO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44D63-A127-4563-A8E6-43D0883D694A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843588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balanced chemic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vert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grams of </a:t>
            </a:r>
            <a:r>
              <a:rPr b="0" lang="en-GB" sz="2800" spc="-1" strike="noStrike">
                <a:solidFill>
                  <a:srgbClr val="666633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666633"/>
                </a:solidFill>
                <a:latin typeface="Comic Sans MS"/>
              </a:rPr>
              <a:t>2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moles of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492360" y="2282760"/>
            <a:ext cx="31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Balance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1706400" y="3860640"/>
                <a:ext cx="4938840" cy="20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9g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6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0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468360" y="1628640"/>
                <a:ext cx="820728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iO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5B7AF-41C4-4E2D-AD86-4D575CF18D3E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75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le ratio (from the balanced equation)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les of L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2 mole of Li </a:t>
            </a: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3200" spc="-1" strike="noStrike" baseline="-25000">
                <a:solidFill>
                  <a:srgbClr val="9900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1 mole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GB" sz="32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       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?mole of Li  </a:t>
            </a:r>
            <a:r>
              <a:rPr b="0" lang="en-GB" sz="32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4.927 mole H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755640" y="3141720"/>
                <a:ext cx="758340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i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7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4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1" name=""/>
          <p:cNvSpPr/>
          <p:nvPr/>
        </p:nvSpPr>
        <p:spPr>
          <a:xfrm>
            <a:off x="0" y="700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1187280" y="5084640"/>
                <a:ext cx="6804360" cy="16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4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41</m:t>
                        </m:r>
                        <m:r>
                          <m:rPr>
                            <m:lit/>
                            <m:nor/>
                          </m:rPr>
                          <m:t xml:space="preserve"> g/mol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43" name=""/>
          <p:cNvSpPr/>
          <p:nvPr/>
        </p:nvSpPr>
        <p:spPr>
          <a:xfrm>
            <a:off x="540000" y="4505400"/>
            <a:ext cx="77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vert the moles of Li → grams of 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270F2-3847-4CAE-8F27-B0C640FAEA96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7d"/>
                </a:solidFill>
                <a:uFillTx/>
                <a:latin typeface="Comic Sans MS"/>
              </a:rPr>
              <a:t>3.9 Limiting Reagent </a:t>
            </a:r>
            <a:r>
              <a:rPr b="1" lang="ar-SA" sz="4000" spc="-1" strike="noStrike" u="sng">
                <a:solidFill>
                  <a:srgbClr val="00007d"/>
                </a:solidFill>
                <a:uFillTx/>
                <a:latin typeface="Comic Sans MS"/>
              </a:rPr>
              <a:t>الكاشف المحد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Limiting Reagent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the reactant used up first in a reaction and thus determine the amount of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Excess Reagent 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الكاشف الفائض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the reactant present in quantities greater than necessary to react with the quantity of the limiting reagent (the one that is left at the end of the reactio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imiting reagent is in a reaction of more than one reacta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F8476-7F07-45EE-97DD-8AA2384A110F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6960" y="387360"/>
            <a:ext cx="379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009a7"/>
                </a:solidFill>
                <a:uFillTx/>
                <a:latin typeface="Comic Sans MS"/>
              </a:rPr>
              <a:t>Limiting Reag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"/>
          <a:srcRect l="18790" t="2707" r="18790" b="0"/>
          <a:stretch/>
        </p:blipFill>
        <p:spPr>
          <a:xfrm>
            <a:off x="5045040" y="260280"/>
            <a:ext cx="2622600" cy="6553440"/>
          </a:xfrm>
          <a:prstGeom prst="rect">
            <a:avLst/>
          </a:prstGeom>
          <a:ln w="0">
            <a:noFill/>
          </a:ln>
        </p:spPr>
      </p:pic>
      <p:grpSp>
        <p:nvGrpSpPr>
          <p:cNvPr id="548" name=""/>
          <p:cNvGrpSpPr/>
          <p:nvPr/>
        </p:nvGrpSpPr>
        <p:grpSpPr>
          <a:xfrm>
            <a:off x="1191600" y="2360520"/>
            <a:ext cx="3009240" cy="510120"/>
            <a:chOff x="1191600" y="2360520"/>
            <a:chExt cx="3009240" cy="510120"/>
          </a:xfrm>
        </p:grpSpPr>
        <p:sp>
          <p:nvSpPr>
            <p:cNvPr id="549" name=""/>
            <p:cNvSpPr/>
            <p:nvPr/>
          </p:nvSpPr>
          <p:spPr>
            <a:xfrm>
              <a:off x="1191600" y="2360520"/>
              <a:ext cx="3009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NO + 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      2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562120" y="258120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762840" y="3408480"/>
            <a:ext cx="387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is the limiting re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5394240" y="4286160"/>
            <a:ext cx="1104840" cy="1206360"/>
            <a:chOff x="5394240" y="4286160"/>
            <a:chExt cx="1104840" cy="1206360"/>
          </a:xfrm>
        </p:grpSpPr>
        <p:sp>
          <p:nvSpPr>
            <p:cNvPr id="553" name=""/>
            <p:cNvSpPr/>
            <p:nvPr/>
          </p:nvSpPr>
          <p:spPr>
            <a:xfrm>
              <a:off x="6080040" y="4286160"/>
              <a:ext cx="419040" cy="380880"/>
            </a:xfrm>
            <a:prstGeom prst="ellipse">
              <a:avLst/>
            </a:prstGeom>
            <a:noFill/>
            <a:ln w="2844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394240" y="4705200"/>
              <a:ext cx="419040" cy="380880"/>
            </a:xfrm>
            <a:prstGeom prst="ellipse">
              <a:avLst/>
            </a:prstGeom>
            <a:noFill/>
            <a:ln w="2844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902200" y="5111640"/>
              <a:ext cx="419400" cy="380880"/>
            </a:xfrm>
            <a:prstGeom prst="ellipse">
              <a:avLst/>
            </a:prstGeom>
            <a:noFill/>
            <a:ln w="2844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827280" y="4457880"/>
            <a:ext cx="360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cc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9999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99cc"/>
                </a:solidFill>
                <a:latin typeface="Comic Sans MS"/>
              </a:rPr>
              <a:t> is the excess re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04720" y="1098720"/>
            <a:ext cx="441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ctant used up first in the re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31564-07A0-4740-B691-E19C4DF8D0A6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Questions in Limiting Reag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First: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 we have to determine which reactant is the limiting reagent and which is the excess reage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Second: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 after we know which one is the limiting reagent, we could  determine the amount of the product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2009a7"/>
                </a:solidFill>
                <a:latin typeface="Comic Sans MS"/>
              </a:rPr>
              <a:t>Third:</a:t>
            </a: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 after we know the excess reagent, we could determine how much excess of it is left at the end of the reaction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9D33A-C80C-47D3-8206-0AFBF47AE88F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3.15 P10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637.2g of NH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are treated with 1142g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O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Which of the two reactants is the limiting reag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Calculate the mass of (NH</a:t>
            </a:r>
            <a:r>
              <a:rPr b="0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)</a:t>
            </a:r>
            <a:r>
              <a:rPr b="0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CO form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uch excess reagent (in grams) is left at the end of the rea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539640" y="1125360"/>
                <a:ext cx="792000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D5243-7490-4057-8DB3-92AA24E6A6C8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Which of the two reactants is the limiting reagent? </a:t>
            </a:r>
            <a:r>
              <a:rPr b="0" lang="ar-SA" sz="3200" spc="-1" strike="noStrike">
                <a:solidFill>
                  <a:srgbClr val="9900cc"/>
                </a:solidFill>
                <a:latin typeface="Comic Sans MS"/>
              </a:rPr>
              <a:t>المتفاعل اللذي يعطي </a:t>
            </a:r>
            <a:r>
              <a:rPr b="0" lang="ar-SA" sz="3200" spc="-1" strike="noStrike" u="sng">
                <a:solidFill>
                  <a:srgbClr val="9900cc"/>
                </a:solidFill>
                <a:uFillTx/>
                <a:latin typeface="Comic Sans MS"/>
              </a:rPr>
              <a:t>مولات اقل من الناتج</a:t>
            </a:r>
            <a:r>
              <a:rPr b="0" lang="ar-SA" sz="3200" spc="-1" strike="noStrike">
                <a:solidFill>
                  <a:srgbClr val="9900cc"/>
                </a:solidFill>
                <a:latin typeface="Comic Sans MS"/>
              </a:rPr>
              <a:t> هو الكاشف المحدد, لانه يحد من كميه الناتج التي يمكن ان تتكون</a:t>
            </a:r>
            <a:r>
              <a:rPr b="0" lang="ar-SA" sz="32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For the first reactant NH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 637.2 g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N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nvert to m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826920" y="4221000"/>
                <a:ext cx="6409080" cy="250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H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H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3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16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788000" y="29242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تحول الى مول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4FF2B-51D5-4E66-98B4-FDC0DC480EEA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153640" cy="60325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164360" y="-27000"/>
            <a:ext cx="1979640" cy="863640"/>
          </a:xfrm>
          <a:prstGeom prst="borderCallout1">
            <a:avLst>
              <a:gd name="adj1" fmla="val 18750"/>
              <a:gd name="adj2" fmla="val -8333"/>
              <a:gd name="adj3" fmla="val 186763"/>
              <a:gd name="adj4" fmla="val -27986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verage atomic mass (12.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C789D-DD55-46B6-A975-0AD159C0C0F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Mole rat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 moles N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→ 1 mole of (N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7.416moles of N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→  ?n (N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395280" y="2924280"/>
                <a:ext cx="835344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16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58287-FDAB-4875-8A47-962C298C71EA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or the second reactant CO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1. 1142 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vert to m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 Mole rati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e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e of (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5.949 mol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n  (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2484360" y="1628640"/>
                <a:ext cx="388800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42</m:t>
                            </m:r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49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1692360" y="4653000"/>
                <a:ext cx="583236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49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5" name=""/>
          <p:cNvSpPr/>
          <p:nvPr/>
        </p:nvSpPr>
        <p:spPr>
          <a:xfrm>
            <a:off x="324000" y="5661000"/>
            <a:ext cx="813564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us: the limiting reagent is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because it produces a smaller amount of (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6000" y="54936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تحول الى مول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A8259-A934-4E39-A0D8-4EBAA63B4F45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9152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SzPct val="75000"/>
              <a:buFont typeface="Comic Sans MS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Calculate the mass of (NH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CO form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have 18.71 mol of (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  using 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limiting reagen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vert to 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611280" y="2368440"/>
                <a:ext cx="7777080" cy="16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1mol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rPr>
                            <m:lit/>
                            <m:nor/>
                          </m:rPr>
                          <m:t xml:space="preserve"> g/mol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24</m:t>
                        </m:r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BC217-F8A7-4A44-95B6-73F3AACFAAB8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6868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SzPct val="75000"/>
              <a:buFont typeface="Comic Sans MS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How much excess reagent (in grams) is left at the end of the rea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Excess reagent is CO</a:t>
            </a:r>
            <a:r>
              <a:rPr b="1" lang="en-GB" sz="32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rams of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left = initial grams – reacted 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1. moles of CO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left = initial moles – reacted m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2. mole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left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6600"/>
                </a:solidFill>
                <a:latin typeface="Arial"/>
              </a:rPr>
              <a:t>→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gram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lef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Initial moles of CO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= 25.95 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Reacted mole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(calculated as follows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F4334-53C3-47BF-BE70-98AEC0FF5D55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456840" y="549360"/>
            <a:ext cx="84358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Reacted mole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(calculated as follows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know that 18.71 mol (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 is produ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1 mol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e (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n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8.71 mol (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THUS: mole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reacted is 18.71 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1835280" y="2708280"/>
                <a:ext cx="590544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1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22E00-7040-4B7D-B541-BB32BD7D7AE2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/>
          </p:nvPr>
        </p:nvSpPr>
        <p:spPr>
          <a:xfrm>
            <a:off x="456840" y="549360"/>
            <a:ext cx="84358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es of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left = initial moles – reacted m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= 25.95 – 18.71 = 7.24 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2. mole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left </a:t>
            </a:r>
            <a:r>
              <a:rPr b="0" lang="en-GB" sz="28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gram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Thus: the mas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remaining (left) = 319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755640" y="2708280"/>
                <a:ext cx="7416720" cy="19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4mol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rPr>
                            <m:lit/>
                            <m:nor/>
                          </m:rPr>
                          <m:t xml:space="preserve"> g/mol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19</m:t>
                        </m:r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EC3F4-AA19-4E74-8CF0-45CC02EA72EC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Box 2"/>
          <p:cNvSpPr/>
          <p:nvPr/>
        </p:nvSpPr>
        <p:spPr>
          <a:xfrm>
            <a:off x="395280" y="404640"/>
            <a:ext cx="7848720" cy="30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H.W. # 1: When 22.0 g NaCl and 21.0 g H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are mixed and react according to the   equation below, which is the limiting reagent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2NaCl + H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Na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+ 2HCl 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Na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b)   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c)     N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d)     H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e)     No reagent is limi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-36360" y="3573360"/>
          <a:ext cx="8153280" cy="3048120"/>
        </p:xfrm>
        <a:graphic>
          <a:graphicData uri="http://schemas.openxmlformats.org/drawingml/2006/table">
            <a:tbl>
              <a:tblPr/>
              <a:tblGrid>
                <a:gridCol w="626760"/>
                <a:gridCol w="522360"/>
                <a:gridCol w="7004160"/>
              </a:tblGrid>
              <a:tr h="191340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.W. # 2: Consider the combustion of carbon monoxide (CO) in oxygen ga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CO(</a:t>
                      </a:r>
                      <a:r>
                        <a:rPr b="0" i="1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g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) + O</a:t>
                      </a:r>
                      <a:r>
                        <a:rPr b="0" lang="en-US" sz="20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g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)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 2CO</a:t>
                      </a:r>
                      <a:r>
                        <a:rPr b="0" lang="en-US" sz="20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g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Starting with 3.60 moles of CO, calculate the number of moles of CO</a:t>
                      </a:r>
                      <a:r>
                        <a:rPr b="0" lang="en-US" sz="20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 produced </a:t>
                      </a:r>
                      <a:r>
                        <a:rPr b="0" lang="en-US" sz="2000" spc="-1" strike="noStrike" u="sng">
                          <a:solidFill>
                            <a:srgbClr val="006600"/>
                          </a:solidFill>
                          <a:uFillTx/>
                          <a:latin typeface="Comic Sans MS"/>
                          <a:ea typeface="Times New Roman"/>
                        </a:rPr>
                        <a:t>if there is enough oxygen gas to react with all of the C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7.20 m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4.0 m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3.60 m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80 m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6" name=""/>
          <p:cNvSpPr/>
          <p:nvPr/>
        </p:nvSpPr>
        <p:spPr>
          <a:xfrm flipH="1">
            <a:off x="324000" y="3429000"/>
            <a:ext cx="792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851280" y="513252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The limiting Reagent is 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4CA58-6AAA-4A7A-8097-85C2FFAAE1C3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240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3.10 Reaction Y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2"/>
          <p:cNvSpPr/>
          <p:nvPr/>
        </p:nvSpPr>
        <p:spPr>
          <a:xfrm>
            <a:off x="179280" y="1197000"/>
            <a:ext cx="8521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heoretical Yield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amount of product that would result if all the limiting reagent rea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3"/>
          <p:cNvSpPr/>
          <p:nvPr/>
        </p:nvSpPr>
        <p:spPr>
          <a:xfrm>
            <a:off x="250920" y="341964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ctual Yield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amount of product actually obtained from a re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Group 11"/>
          <p:cNvGrpSpPr/>
          <p:nvPr/>
        </p:nvGrpSpPr>
        <p:grpSpPr>
          <a:xfrm>
            <a:off x="1779480" y="4587840"/>
            <a:ext cx="5089320" cy="941400"/>
            <a:chOff x="1779480" y="4587840"/>
            <a:chExt cx="5089320" cy="941400"/>
          </a:xfrm>
        </p:grpSpPr>
        <p:sp>
          <p:nvSpPr>
            <p:cNvPr id="592" name="Text Box 4"/>
            <p:cNvSpPr/>
            <p:nvPr/>
          </p:nvSpPr>
          <p:spPr>
            <a:xfrm>
              <a:off x="1779480" y="4829400"/>
              <a:ext cx="185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% Yield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3" name="Group 9"/>
            <p:cNvGrpSpPr/>
            <p:nvPr/>
          </p:nvGrpSpPr>
          <p:grpSpPr>
            <a:xfrm>
              <a:off x="3696120" y="4587840"/>
              <a:ext cx="2379240" cy="941400"/>
              <a:chOff x="3696120" y="4587840"/>
              <a:chExt cx="2379240" cy="941400"/>
            </a:xfrm>
          </p:grpSpPr>
          <p:sp>
            <p:nvSpPr>
              <p:cNvPr id="594" name="Text Box 5"/>
              <p:cNvSpPr/>
              <p:nvPr/>
            </p:nvSpPr>
            <p:spPr>
              <a:xfrm>
                <a:off x="4019400" y="4587840"/>
                <a:ext cx="142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ctual Yiel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Text Box 6"/>
              <p:cNvSpPr/>
              <p:nvPr/>
            </p:nvSpPr>
            <p:spPr>
              <a:xfrm>
                <a:off x="3696120" y="5160960"/>
                <a:ext cx="1957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Theoretical Yiel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Line 8"/>
              <p:cNvSpPr/>
              <p:nvPr/>
            </p:nvSpPr>
            <p:spPr>
              <a:xfrm>
                <a:off x="3713400" y="5102280"/>
                <a:ext cx="2361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7" name="Text Box 10"/>
            <p:cNvSpPr/>
            <p:nvPr/>
          </p:nvSpPr>
          <p:spPr>
            <a:xfrm>
              <a:off x="6114960" y="4842000"/>
              <a:ext cx="75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x 1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Text Box 3"/>
          <p:cNvSpPr/>
          <p:nvPr/>
        </p:nvSpPr>
        <p:spPr>
          <a:xfrm>
            <a:off x="789120" y="58626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Actual Yield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 is  always le</a:t>
            </a: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ss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6C8C9-5DFF-4BFE-B29B-EC765E4D9E2C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240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3.10 Reaction Y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2"/>
          <p:cNvSpPr/>
          <p:nvPr/>
        </p:nvSpPr>
        <p:spPr>
          <a:xfrm>
            <a:off x="179280" y="1197000"/>
            <a:ext cx="8521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Theoretical Yield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s the amount of product that would result if all the limiting reagent react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Limiting regent mass </a:t>
            </a: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moles of limiting reagent</a:t>
            </a: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→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moles of product </a:t>
            </a: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→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grams of product (theoretical yield of the produc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4544A-EC9C-4D16-A230-C0F6ACA892FC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52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3.16 p106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3.54 x10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7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g of TiCl</a:t>
            </a:r>
            <a:r>
              <a:rPr b="0" lang="en-GB" sz="32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are reacted with 1.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x 10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7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g of M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Calculate the theoretical yield of Ti in 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Calculate the percent yield if 7.91 x 10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g of Ti are actually obtai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3" name=""/>
              <p:cNvSpPr txBox="1"/>
              <p:nvPr/>
            </p:nvSpPr>
            <p:spPr>
              <a:xfrm>
                <a:off x="395280" y="1066680"/>
                <a:ext cx="7993080" cy="7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iCl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T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gC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5CE39-EA68-4DC3-AFCA-6F1B50226041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0-07T09:20:31Z</dcterms:modified>
  <cp:revision>464</cp:revision>
  <dc:subject/>
  <dc:title>General Chemistry CHEM 110</dc:title>
</cp:coreProperties>
</file>